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8E80-9768-45B1-9B45-37566FA9D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D266-FA60-4705-8F0F-B7C171746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247" name="Skaidrės numerio vietos rezervavimo ženklas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6E57-27B8-4A00-BF13-CA734FA6D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C4DC3-AD14-4ECC-8423-59CA2A324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4C70-6BC5-4399-825A-D6C9AFE6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58AE-0DE3-40E2-9A92-34A394553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13697-42AA-4A94-84A6-467F5FAD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BA2D4-21BB-44D1-AC04-80A401160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D41A-62D7-4295-BBB0-88B802609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0A219-9714-4D8E-9784-C7BF00C0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8DDC-84C9-4B3C-8820-C2995CAA5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FD6A-FA64-451F-B379-E75CBC2E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CF29-4ECE-48A9-A1B7-B4B69D7A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C5A0-D3AA-4C38-8ABA-6B2252BE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8B80A-3735-43F0-8415-F3DED5512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97F5-EB10-4AFA-8500-1F15EFB79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042920" y="47628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1547640" y="907920"/>
            <a:ext cx="61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 </a:t>
            </a:r>
            <a:r>
              <a:rPr b="1" lang="lt-LT" sz="2000" spc="-1" strike="noStrike">
                <a:solidFill>
                  <a:srgbClr val="000000"/>
                </a:solidFill>
                <a:latin typeface="Arial"/>
              </a:rPr>
              <a:t>d</a:t>
            </a:r>
            <a:r>
              <a:rPr b="1" lang="en-US" sz="2000" spc="-1" strike="noStrike">
                <a:solidFill>
                  <a:srgbClr val="000000"/>
                </a:solidFill>
                <a:latin typeface="Arial"/>
              </a:rPr>
              <a:t>r. Dainius </a:t>
            </a:r>
            <a:r>
              <a:rPr b="1" lang="lt-LT" sz="2000" spc="-1" strike="noStrike">
                <a:solidFill>
                  <a:srgbClr val="000000"/>
                </a:solidFill>
                <a:latin typeface="Arial"/>
              </a:rPr>
              <a:t>Žalimas</a:t>
            </a:r>
            <a:endParaRPr b="0" lang="en-US" sz="2000" spc="-1" strike="noStrike">
              <a:solidFill>
                <a:srgbClr val="000000"/>
              </a:solidFill>
              <a:latin typeface="Arial"/>
            </a:endParaRPr>
          </a:p>
        </p:txBody>
      </p:sp>
      <p:sp>
        <p:nvSpPr>
          <p:cNvPr id="50" name="Text Box 4"/>
          <p:cNvSpPr/>
          <p:nvPr/>
        </p:nvSpPr>
        <p:spPr>
          <a:xfrm>
            <a:off x="3616200" y="114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5"/>
          <p:cNvSpPr txBox="1"/>
          <p:nvPr/>
        </p:nvSpPr>
        <p:spPr>
          <a:xfrm>
            <a:off x="2162160" y="2670120"/>
            <a:ext cx="4819680" cy="1523880"/>
          </a:xfrm>
          <a:prstGeom prst="rect">
            <a:avLst/>
          </a:prstGeom>
        </p:spPr>
        <p:txBody>
          <a:bodyPr wrap="none" lIns="90000" rIns="90000" tIns="46800" bIns="46800" anchor="t" anchorCtr="1">
            <a:prstTxWarp prst="textDeflate">
              <a:avLst>
                <a:gd name="adj" fmla="val 26227"/>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ARPTAUTINĖ VIEŠOJI TEISĖ</a:t>
            </a:r>
            <a:endParaRPr b="0" lang="en-US" sz="1800" spc="1" strike="noStrike">
              <a:ln w="9360">
                <a:solidFill>
                  <a:srgbClr val="000000"/>
                </a:solidFill>
                <a:miter/>
              </a:ln>
              <a:solidFill>
                <a:srgbClr val="000000"/>
              </a:solidFill>
              <a:latin typeface="Impact"/>
              <a:ea typeface="Impact"/>
            </a:endParaRPr>
          </a:p>
        </p:txBody>
      </p:sp>
      <p:sp>
        <p:nvSpPr>
          <p:cNvPr id="52" name="Text Box 6"/>
          <p:cNvSpPr/>
          <p:nvPr/>
        </p:nvSpPr>
        <p:spPr>
          <a:xfrm>
            <a:off x="2124000" y="5445000"/>
            <a:ext cx="489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a:t>
            </a:r>
            <a:r>
              <a:rPr b="1" lang="en-US" sz="1800" spc="-1" strike="noStrike">
                <a:solidFill>
                  <a:srgbClr val="000000"/>
                </a:solidFill>
                <a:latin typeface="Arial"/>
              </a:rPr>
              <a:t>II</a:t>
            </a:r>
            <a:r>
              <a:rPr b="1" lang="lt-LT" sz="1800" spc="-1" strike="noStrike">
                <a:solidFill>
                  <a:srgbClr val="000000"/>
                </a:solidFill>
                <a:latin typeface="Arial"/>
              </a:rPr>
              <a:t> dalis. </a:t>
            </a:r>
            <a:r>
              <a:rPr b="1" lang="en-US" sz="1800" spc="-1" strike="noStrike">
                <a:solidFill>
                  <a:srgbClr val="000000"/>
                </a:solidFill>
                <a:latin typeface="Arial"/>
              </a:rPr>
              <a:t>Speciali</a:t>
            </a:r>
            <a:r>
              <a:rPr b="1" lang="lt-LT" sz="1800" spc="-1" strike="noStrike">
                <a:solidFill>
                  <a:srgbClr val="000000"/>
                </a:solidFill>
                <a:latin typeface="Arial"/>
              </a:rPr>
              <a:t>oji dal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ės privilegijos ir imunitetai</a:t>
            </a:r>
            <a:br>
              <a:rPr sz="2000"/>
            </a:br>
            <a:r>
              <a:rPr b="0" lang="lt-LT" sz="1800" spc="-1" strike="noStrike">
                <a:solidFill>
                  <a:srgbClr val="000000"/>
                </a:solidFill>
                <a:latin typeface="Arial"/>
              </a:rPr>
              <a:t>(1961 m. Vienos konvencijos 20-36 str.)</a:t>
            </a:r>
            <a:endParaRPr b="0" lang="en-US" sz="1800" spc="-1" strike="noStrike">
              <a:solidFill>
                <a:srgbClr val="000000"/>
              </a:solidFill>
              <a:latin typeface="Arial"/>
            </a:endParaRPr>
          </a:p>
        </p:txBody>
      </p:sp>
      <p:sp>
        <p:nvSpPr>
          <p:cNvPr id="102"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Imunitetas</a:t>
            </a:r>
            <a:r>
              <a:rPr b="0" lang="lt-LT" sz="2000" spc="-1" strike="noStrike">
                <a:solidFill>
                  <a:srgbClr val="000000"/>
                </a:solidFill>
                <a:latin typeface="Arial"/>
              </a:rPr>
              <a:t> – buvimo valstybės jurisdikcijos netaikymas (“išėmimas iš jurisdikcijos”), kyla iš tarptautinio paproč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rivilegija</a:t>
            </a:r>
            <a:r>
              <a:rPr b="0" lang="lt-LT" sz="2000" spc="-1" strike="noStrike">
                <a:solidFill>
                  <a:srgbClr val="000000"/>
                </a:solidFill>
                <a:latin typeface="Arial"/>
              </a:rPr>
              <a:t> – pirmenybė (teisė), kuri nesuteikiama kitiems buvimo valstybėje esantiems asmenims, kilo iš tarptautinio mandagumo taisyklių</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plomatinių privilegijų ir imunitetų </a:t>
            </a:r>
            <a:r>
              <a:rPr b="1" lang="lt-LT" sz="2000" spc="-1" strike="noStrike">
                <a:solidFill>
                  <a:srgbClr val="000000"/>
                </a:solidFill>
                <a:latin typeface="Arial"/>
              </a:rPr>
              <a:t>klasifikacija pagal subjektą</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iplomatinės atstovybės (kaip įstaigos) privilegijos ir imunitet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iplomatinės atstovybės personalo ir susijusių asmenų privilegijos ir imunitetai: </a:t>
            </a:r>
            <a:r>
              <a:rPr b="0" lang="lt-LT" sz="1800" spc="-1" strike="noStrike" u="sng">
                <a:solidFill>
                  <a:srgbClr val="000000"/>
                </a:solidFill>
                <a:uFillTx/>
                <a:latin typeface="Arial"/>
              </a:rPr>
              <a:t>diplomatinio personalo (diplomatų)</a:t>
            </a:r>
            <a:r>
              <a:rPr b="0" lang="lt-LT" sz="1800" spc="-1" strike="noStrike">
                <a:solidFill>
                  <a:srgbClr val="000000"/>
                </a:solidFill>
                <a:latin typeface="Arial"/>
              </a:rPr>
              <a:t> ir jo šeimos narių, administracinio techninio personalo ir jo šeimos narių, aptarnaujančio personalo ir jo šeimos narių, privačių namų darbininkų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iplomatinių privilegijų ir imunitetų </a:t>
            </a:r>
            <a:r>
              <a:rPr b="1" lang="lt-LT" sz="2000" spc="-1" strike="noStrike">
                <a:solidFill>
                  <a:srgbClr val="000000"/>
                </a:solidFill>
                <a:latin typeface="Arial"/>
              </a:rPr>
              <a:t>klasifikacija pagal objektą</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smens ir patalpų neliečiamyb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rchyvų ir dokumentų neliečiamyb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imunitetas nuo jurisdikcijos: nuo baudžiamosios bei nuo civilinės ir administracinė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fiskalinės privilegijos ir imunitetai: atleidimas nuo mokesčių (išskyrus už paslaugas ar susijusius su privačiais interesais ar privačia veikla), įskaičiuotų į prekės ar paslaugos kainą perkant brangų turtą ar paslaugas mokesčių grąžinim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muitų privilegijos ir imunitet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smeninio bagažo neliečiamyb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susisiekimo ir judėjimo laisvė;</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leidimas nuo socialinio aprūpinimo ir kitų viešųjų prievolių</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eisė naudoti atstovaujamosios valstybės simbolik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ės ir konsulinės funkcijos</a:t>
            </a:r>
            <a:endParaRPr b="0" lang="en-US" sz="2000" spc="-1" strike="noStrike">
              <a:solidFill>
                <a:srgbClr val="000000"/>
              </a:solidFill>
              <a:latin typeface="Arial"/>
            </a:endParaRPr>
          </a:p>
        </p:txBody>
      </p:sp>
      <p:sp>
        <p:nvSpPr>
          <p:cNvPr id="104" name=""/>
          <p:cNvSpPr txBox="1"/>
          <p:nvPr/>
        </p:nvSpPr>
        <p:spPr>
          <a:xfrm>
            <a:off x="-360" y="404640"/>
            <a:ext cx="4140360" cy="645336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Diplomatinių atstovybių funkcijos</a:t>
            </a: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gl. 1961 m. Vienos konvencijos dėl diplomatinių santykių 3, 27 str.)</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stovavimas valstyb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erybų vedim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savo valstybės ir jos fizinių bei juridinių asmenų interesų gynim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formacinė funkcij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raugiškų santykių plėt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gali vykdyti visas konsulines funkcijas, jas vykdant diplomatinės privilegijos ir imunitetai išliek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i kontaktuojama su centrinėmis priimančiosios valstybės institucijomis</a:t>
            </a:r>
            <a:endParaRPr b="0" lang="en-US" sz="2000" spc="-1" strike="noStrike">
              <a:solidFill>
                <a:srgbClr val="000000"/>
              </a:solidFill>
              <a:latin typeface="Arial"/>
            </a:endParaRPr>
          </a:p>
        </p:txBody>
      </p:sp>
      <p:sp>
        <p:nvSpPr>
          <p:cNvPr id="105" name=""/>
          <p:cNvSpPr txBox="1"/>
          <p:nvPr/>
        </p:nvSpPr>
        <p:spPr>
          <a:xfrm>
            <a:off x="4140000" y="333360"/>
            <a:ext cx="5003640" cy="652464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onsulinės funkcijos</a:t>
            </a:r>
            <a:endParaRPr b="0" lang="en-US" sz="18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gl. 1961 m. Vienos konvencijos dėl konsulinių santykių 5, 17, 38 str.)</a:t>
            </a:r>
            <a:endParaRPr b="0" lang="en-US" sz="16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olitinio atstovavimo valstybei nė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erybų funkcijos nė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valstybės ir jos fizinių bei juridinių asmenų interesų gynyba vykdo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informacinė funkcija vykdo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raugiškų santykių plėtra vykdo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tskirus diplomatinius aktus galima atlikti tik nesant valstybės diplomatinės atstovybės ir įgaliotos trečiosios valstybės atstovybės, priimančiajai valstybei sutinkant, tai nesuteikia teisės į diplomatines privilegijas ir imunitetu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i kontaktuojama su vietinėmis konsulinės apygardos institucijomis, rečiau su centrinėmis valstybės institucijom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noFill/>
          <a:ln w="0">
            <a:noFill/>
          </a:ln>
        </p:spPr>
        <p:txBody>
          <a:bodyPr anchor="t">
            <a:normAutofit/>
          </a:bodyPr>
          <a:p>
            <a:pPr marL="81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onsulinių funkcijų klasifikacija:</a:t>
            </a:r>
            <a:endParaRPr b="0" lang="en-US" sz="2000" spc="-1" strike="noStrike">
              <a:solidFill>
                <a:srgbClr val="000000"/>
              </a:solidFill>
              <a:latin typeface="Arial"/>
            </a:endParaRPr>
          </a:p>
          <a:p>
            <a:pPr marL="81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63 m. Vienos konvencijos 5 str., LR Konsulinio statuto 14-40 str.)</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 Pagrindinės (bendrosios) funkcijos:</a:t>
            </a:r>
            <a:endParaRPr b="0" lang="en-US" sz="18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	</a:t>
            </a:r>
            <a:r>
              <a:rPr b="1" lang="lt-LT" sz="1600" spc="-1" strike="noStrike">
                <a:solidFill>
                  <a:srgbClr val="000000"/>
                </a:solidFill>
                <a:latin typeface="Arial"/>
              </a:rPr>
              <a:t>atstovaujamosios funkcijos – atstovaujamosios valstybės, jos fizinių ir juridinių asmenų interesų gynyba;</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draugiškų santykių su priimančiąja valstybe plėtra;</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informacinė funkcija;</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dministracinės funkcijos;</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notarinės ir registracinės funkcijos</a:t>
            </a:r>
            <a:endParaRPr b="0" lang="en-US" sz="16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I. Išvestinės (specialiosios) funkcijos:</a:t>
            </a:r>
            <a:endParaRPr b="0" lang="en-US" sz="18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onsulinė pagalba;</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sų, kelionės dokumentų, vizų išdavimas;</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isių perėmimo ir palikimo apsauga;</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pilnamečių globos ir rūpybos užtikrinimas;</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kinas piliečių ir juridinių asmenų interesų atstovavimas priimančiosios valstybės įstaigose;</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isinė pagalba – teisminių ir neteisminių dokumentų perdavimas, pavedimų atlikimas;</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avigacinės funkcijos – atstovaujamosios valstybės laivų ir orlaivių priežiūra, inspektavimas, pagalbos jiems teikimas ir ginčų sprendimas;</a:t>
            </a:r>
            <a:endParaRPr b="0" lang="en-US" sz="1600" spc="-1" strike="noStrike">
              <a:solidFill>
                <a:srgbClr val="000000"/>
              </a:solidFill>
              <a:latin typeface="Arial"/>
            </a:endParaRPr>
          </a:p>
          <a:p>
            <a:pPr marL="812880" indent="-812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itos funkcijos (jei nustato kitos sutartys ar nedraudžia priimančioji valstybė):</a:t>
            </a:r>
            <a:endParaRPr b="0" lang="en-US" sz="16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400" spc="-1" strike="noStrike">
                <a:solidFill>
                  <a:srgbClr val="000000"/>
                </a:solidFill>
                <a:latin typeface="Arial"/>
              </a:rPr>
              <a:t>- ryšiai su išeivija;</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konsulinė registracija;</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konsulinis dokumentų legalizavimas;</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rinkimų ir referendumų organizavimas;</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sanitarinė funkcija: informavimas apie pavojingas ligas ir epidemijas ar epizootijas;</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mokslo ir kultūros ryšių stiprinimas;</a:t>
            </a:r>
            <a:endParaRPr b="0" lang="en-US" sz="1400" spc="-1" strike="noStrike">
              <a:solidFill>
                <a:srgbClr val="000000"/>
              </a:solidFill>
              <a:latin typeface="Arial"/>
            </a:endParaRPr>
          </a:p>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a:solidFill>
                  <a:srgbClr val="000000"/>
                </a:solidFill>
                <a:latin typeface="Arial"/>
              </a:rPr>
              <a:t>- informacijos apie atstovaujamosios valstybės gyvenimą sklaida</a:t>
            </a:r>
            <a:endParaRPr b="0" lang="en-US" sz="1400" spc="-1" strike="noStrike">
              <a:solidFill>
                <a:srgbClr val="000000"/>
              </a:solidFill>
              <a:latin typeface="Arial"/>
            </a:endParaRPr>
          </a:p>
        </p:txBody>
      </p:sp>
      <p:sp>
        <p:nvSpPr>
          <p:cNvPr id="107" name="Line 3"/>
          <p:cNvSpPr/>
          <p:nvPr/>
        </p:nvSpPr>
        <p:spPr>
          <a:xfrm flipH="1">
            <a:off x="2555640" y="1197000"/>
            <a:ext cx="4608360" cy="158436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4"/>
          <p:cNvSpPr/>
          <p:nvPr/>
        </p:nvSpPr>
        <p:spPr>
          <a:xfrm flipH="1">
            <a:off x="4066920" y="1197000"/>
            <a:ext cx="3097080" cy="208764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
          <p:cNvSpPr/>
          <p:nvPr/>
        </p:nvSpPr>
        <p:spPr>
          <a:xfrm flipH="1">
            <a:off x="4716360" y="1197000"/>
            <a:ext cx="2448000" cy="230328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
          <p:cNvSpPr/>
          <p:nvPr/>
        </p:nvSpPr>
        <p:spPr>
          <a:xfrm flipH="1">
            <a:off x="5364000" y="1197000"/>
            <a:ext cx="2376720" cy="259236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flipH="1">
            <a:off x="5580000" y="1197000"/>
            <a:ext cx="2160720" cy="324180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flipH="1">
            <a:off x="2124000" y="1197000"/>
            <a:ext cx="3888000" cy="3887640"/>
          </a:xfrm>
          <a:prstGeom prst="line">
            <a:avLst/>
          </a:prstGeom>
          <a:ln cap="sq" w="38160">
            <a:solidFill>
              <a:srgbClr val="00a8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flipH="1">
            <a:off x="3492360" y="1628640"/>
            <a:ext cx="503280" cy="4537080"/>
          </a:xfrm>
          <a:prstGeom prst="line">
            <a:avLst/>
          </a:prstGeom>
          <a:ln cap="sq"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2627280" y="1916280"/>
            <a:ext cx="2521080" cy="44654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2627280" y="1916280"/>
            <a:ext cx="4105440" cy="40338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flipH="1">
            <a:off x="2195640" y="2133720"/>
            <a:ext cx="72720" cy="2016000"/>
          </a:xfrm>
          <a:prstGeom prst="line">
            <a:avLst/>
          </a:prstGeom>
          <a:ln cap="sq" w="38160">
            <a:solidFill>
              <a:srgbClr val="96969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2268360" y="2133720"/>
            <a:ext cx="790920" cy="3600360"/>
          </a:xfrm>
          <a:prstGeom prst="line">
            <a:avLst/>
          </a:prstGeom>
          <a:ln cap="sq" w="38160">
            <a:solidFill>
              <a:srgbClr val="96969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flipH="1">
            <a:off x="1908000" y="2349360"/>
            <a:ext cx="648000" cy="3024360"/>
          </a:xfrm>
          <a:prstGeom prst="line">
            <a:avLst/>
          </a:prstGeom>
          <a:ln cap="sq"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2268360" y="2133720"/>
            <a:ext cx="719280" cy="863640"/>
          </a:xfrm>
          <a:prstGeom prst="line">
            <a:avLst/>
          </a:prstGeom>
          <a:ln cap="sq" w="38160">
            <a:solidFill>
              <a:srgbClr val="96969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1547640" y="2349360"/>
            <a:ext cx="1079640" cy="3238560"/>
          </a:xfrm>
          <a:prstGeom prst="line">
            <a:avLst/>
          </a:prstGeom>
          <a:ln cap="sq"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2268360" y="2133720"/>
            <a:ext cx="5113440" cy="2303280"/>
          </a:xfrm>
          <a:prstGeom prst="line">
            <a:avLst/>
          </a:prstGeom>
          <a:ln cap="sq" w="38160">
            <a:solidFill>
              <a:srgbClr val="96969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onsulinių įstaigų personalas</a:t>
            </a:r>
            <a:br>
              <a:rPr sz="2000"/>
            </a:br>
            <a:r>
              <a:rPr b="0" lang="lt-LT" sz="1600" spc="-1" strike="noStrike">
                <a:solidFill>
                  <a:srgbClr val="000000"/>
                </a:solidFill>
                <a:latin typeface="Arial"/>
              </a:rPr>
              <a:t>(1963 m. Vienos konvencijos 1, 9, 58-68 str., LR Konsulinio statuto 2, 9, 13 str.)</a:t>
            </a:r>
            <a:endParaRPr b="0" lang="en-US" sz="1600" spc="-1" strike="noStrike">
              <a:solidFill>
                <a:srgbClr val="000000"/>
              </a:solidFill>
              <a:latin typeface="Arial"/>
            </a:endParaRPr>
          </a:p>
        </p:txBody>
      </p:sp>
      <p:sp>
        <p:nvSpPr>
          <p:cNvPr id="123" name="PlaceHolder 2"/>
          <p:cNvSpPr>
            <a:spLocks noGrp="1"/>
          </p:cNvSpPr>
          <p:nvPr>
            <p:ph/>
          </p:nvPr>
        </p:nvSpPr>
        <p:spPr>
          <a:xfrm>
            <a:off x="0" y="764640"/>
            <a:ext cx="9144000" cy="60930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ersonalo rūšy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konsuliniai pareigūnai</a:t>
            </a:r>
            <a:r>
              <a:rPr b="0" lang="lt-LT" sz="2400" spc="-1" strike="noStrike">
                <a:solidFill>
                  <a:srgbClr val="000000"/>
                </a:solidFill>
                <a:latin typeface="Arial"/>
              </a:rPr>
              <a:t> (diplomatinio personalo atitikmuo) – asmenys, įgalioti atlikti konsulines funkcijas (įskaitant konsulinės įstaigos vadovą);</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konsuliniai darbuotojai (tarnautojai)</a:t>
            </a:r>
            <a:r>
              <a:rPr b="0" lang="lt-LT" sz="2400" spc="-1" strike="noStrike">
                <a:solidFill>
                  <a:srgbClr val="000000"/>
                </a:solidFill>
                <a:latin typeface="Arial"/>
              </a:rPr>
              <a:t> – administracinio techninio personalo atitikmuo;</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aptarnaujantis personala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onsulinių pareigūnų rūšy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karjeros (etatinia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garbė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onsulinių įstaigų vadovų klasė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generalinis konsula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konsula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vicekonsula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konsulinis age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onsulinių įstaigų vadovų skyrimas ir funkcijų pabaiga</a:t>
            </a:r>
            <a:br>
              <a:rPr sz="2000"/>
            </a:br>
            <a:r>
              <a:rPr b="0" lang="lt-LT" sz="1600" spc="-1" strike="noStrike">
                <a:solidFill>
                  <a:srgbClr val="000000"/>
                </a:solidFill>
                <a:latin typeface="Arial"/>
              </a:rPr>
              <a:t>(1963 m. Vienos konvencijos 10-12, 23, 25 str.)</a:t>
            </a:r>
            <a:endParaRPr b="0" lang="en-US" sz="1600" spc="-1" strike="noStrike">
              <a:solidFill>
                <a:srgbClr val="000000"/>
              </a:solidFill>
              <a:latin typeface="Arial"/>
            </a:endParaRPr>
          </a:p>
        </p:txBody>
      </p:sp>
      <p:sp>
        <p:nvSpPr>
          <p:cNvPr id="125"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Skyrimas</a:t>
            </a:r>
            <a:r>
              <a:rPr b="0" lang="lt-LT" sz="2000" spc="-1" strike="noStrike">
                <a:solidFill>
                  <a:srgbClr val="000000"/>
                </a:solidFill>
                <a:latin typeface="Arial"/>
              </a:rPr>
              <a:t> (specifika: konsulinis patentas ir egzekvatūra, nėra agremano sąlygos, skiria žemesnio lygio pareigūnai – paprastai UR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Kandidatūros parinkimas ir paskyrimas</a:t>
            </a:r>
            <a:r>
              <a:rPr b="0" lang="lt-LT" sz="2000" spc="-1" strike="noStrike">
                <a:solidFill>
                  <a:srgbClr val="000000"/>
                </a:solidFill>
                <a:latin typeface="Arial"/>
              </a:rPr>
              <a:t> (UR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1" lang="lt-LT" sz="2000" spc="-1" strike="noStrike">
                <a:solidFill>
                  <a:srgbClr val="000000"/>
                </a:solidFill>
                <a:latin typeface="Arial"/>
              </a:rPr>
              <a:t>Konsulinio patento išdavimas</a:t>
            </a:r>
            <a:r>
              <a:rPr b="0" lang="lt-LT" sz="2000" spc="-1" strike="noStrike">
                <a:solidFill>
                  <a:srgbClr val="000000"/>
                </a:solidFill>
                <a:latin typeface="Arial"/>
              </a:rPr>
              <a:t> ir jo perdavimas diplomatiniais kanalais kitos valstybės URM (UR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Kitos valstybės URM </a:t>
            </a:r>
            <a:r>
              <a:rPr b="1" lang="lt-LT" sz="2000" spc="-1" strike="noStrike">
                <a:solidFill>
                  <a:srgbClr val="000000"/>
                </a:solidFill>
                <a:latin typeface="Arial"/>
              </a:rPr>
              <a:t>egzekvatūros išdavimas</a:t>
            </a:r>
            <a:r>
              <a:rPr b="0" lang="lt-LT" sz="2000" spc="-1" strike="noStrike">
                <a:solidFill>
                  <a:srgbClr val="000000"/>
                </a:solidFill>
                <a:latin typeface="Arial"/>
              </a:rPr>
              <a:t> ir funkcijų pradž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Funkcijų pabaiga</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pranešimas priimančiai valstybei apie konsulinio pareigūno funkcijų pabaigą (atšaukimas ir atsistatydinim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egzekvatūros atšaukim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ismislas (atsisakymas pripažinti konsulinio personalo nariu po asmens paskelbimo </a:t>
            </a:r>
            <a:r>
              <a:rPr b="0" i="1" lang="lt-LT" sz="1800" spc="-1" strike="noStrike">
                <a:solidFill>
                  <a:srgbClr val="000000"/>
                </a:solidFill>
                <a:latin typeface="Arial"/>
              </a:rPr>
              <a:t>persona non grata</a:t>
            </a:r>
            <a:r>
              <a:rPr b="0" lang="lt-LT" sz="1800" spc="-1" strike="noStrike">
                <a:solidFill>
                  <a:srgbClr val="000000"/>
                </a:solidFill>
                <a:latin typeface="Arial"/>
              </a:rPr>
              <a:t> ir to asmens neatšaukimo per nustatytą laiką)</a:t>
            </a:r>
            <a:endParaRPr b="0" lang="en-US" sz="1800" spc="-1" strike="noStrike">
              <a:solidFill>
                <a:srgbClr val="000000"/>
              </a:solidFill>
              <a:latin typeface="Arial"/>
            </a:endParaRPr>
          </a:p>
        </p:txBody>
      </p:sp>
      <p:sp>
        <p:nvSpPr>
          <p:cNvPr id="126" name="Line 4"/>
          <p:cNvSpPr/>
          <p:nvPr/>
        </p:nvSpPr>
        <p:spPr>
          <a:xfrm>
            <a:off x="3708360" y="2205000"/>
            <a:ext cx="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5"/>
          <p:cNvSpPr/>
          <p:nvPr/>
        </p:nvSpPr>
        <p:spPr>
          <a:xfrm>
            <a:off x="3780000" y="2924280"/>
            <a:ext cx="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ės žmogaus teisių teisės pagrindai</a:t>
            </a:r>
            <a:endParaRPr b="0" lang="en-US" sz="2400" spc="-1" strike="noStrike">
              <a:solidFill>
                <a:srgbClr val="000000"/>
              </a:solidFill>
              <a:latin typeface="Arial"/>
            </a:endParaRPr>
          </a:p>
        </p:txBody>
      </p:sp>
      <p:sp>
        <p:nvSpPr>
          <p:cNvPr id="129"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ė žmogaus teisių chartija</a:t>
            </a:r>
            <a:r>
              <a:rPr b="0" lang="lt-LT" sz="2000" spc="-1" strike="noStrike">
                <a:solidFill>
                  <a:srgbClr val="000000"/>
                </a:solidFill>
                <a:latin typeface="Arial"/>
              </a:rPr>
              <a:t> – žmogaus teisių katalogą įtvirtinantys ir jų laikymosi kontrolės tarptautinį mechanizmą nustatantys tarptautinės teisės aktai:</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1948 12 10 </a:t>
            </a:r>
            <a:r>
              <a:rPr b="1" lang="lt-LT" sz="2000" spc="-1" strike="noStrike">
                <a:solidFill>
                  <a:srgbClr val="000000"/>
                </a:solidFill>
                <a:latin typeface="Arial"/>
              </a:rPr>
              <a:t>Visuotinė žmogaus teisių deklaracija</a:t>
            </a:r>
            <a:r>
              <a:rPr b="0" lang="lt-LT" sz="2000" spc="-1" strike="noStrike">
                <a:solidFill>
                  <a:srgbClr val="000000"/>
                </a:solidFill>
                <a:latin typeface="Arial"/>
              </a:rPr>
              <a:t> (patvirtinta JT GA rezoliucija) </a:t>
            </a:r>
            <a:r>
              <a:rPr b="0" lang="lt-LT" sz="1800" spc="-1" strike="noStrike">
                <a:solidFill>
                  <a:srgbClr val="000000"/>
                </a:solidFill>
                <a:latin typeface="Arial"/>
              </a:rPr>
              <a:t>– pagrindas, universalios paprotinės normo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1966 12 16 </a:t>
            </a:r>
            <a:r>
              <a:rPr b="1" lang="lt-LT" sz="2000" spc="-1" strike="noStrike">
                <a:solidFill>
                  <a:srgbClr val="000000"/>
                </a:solidFill>
                <a:latin typeface="Arial"/>
              </a:rPr>
              <a:t>Tarptautinis pilietinių ir politinių teisių paktas</a:t>
            </a:r>
            <a:r>
              <a:rPr b="0" lang="lt-LT" sz="2000" spc="-1" strike="noStrike">
                <a:solidFill>
                  <a:srgbClr val="000000"/>
                </a:solidFill>
                <a:latin typeface="Arial"/>
              </a:rPr>
              <a:t> – </a:t>
            </a:r>
            <a:r>
              <a:rPr b="0" lang="lt-LT" sz="1800" spc="-1" strike="noStrike">
                <a:solidFill>
                  <a:srgbClr val="000000"/>
                </a:solidFill>
                <a:latin typeface="Arial"/>
              </a:rPr>
              <a:t>universali tarptautinė sutartis (elgesio įsipareigojimai – valstybės “įsipareigoja gerbti ir garantuoti” visiems jų jurisdikcijai priklausantiems asmenims Pakte pripažįstamas teis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1966 12 16 </a:t>
            </a:r>
            <a:r>
              <a:rPr b="1" lang="lt-LT" sz="1800" spc="-1" strike="noStrike">
                <a:solidFill>
                  <a:srgbClr val="000000"/>
                </a:solidFill>
                <a:latin typeface="Arial"/>
              </a:rPr>
              <a:t>Tarptautinio pilietinių ir politinių teisių pakto fakultatyvusis protokolas</a:t>
            </a:r>
            <a:r>
              <a:rPr b="0" lang="lt-LT" sz="1800" spc="-1" strike="noStrike">
                <a:solidFill>
                  <a:srgbClr val="000000"/>
                </a:solidFill>
                <a:latin typeface="Arial"/>
              </a:rPr>
              <a:t> (I fakultatyvinis protokolas) – JT Žmogaus teisių komiteto kompetencija nagrinėti individualias peticij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0" lang="lt-LT" sz="1800" spc="-1" strike="noStrike">
                <a:solidFill>
                  <a:srgbClr val="000000"/>
                </a:solidFill>
                <a:latin typeface="Arial"/>
              </a:rPr>
              <a:t>- 1989 12 15 </a:t>
            </a:r>
            <a:r>
              <a:rPr b="1" lang="lt-LT" sz="1800" spc="-1" strike="noStrike">
                <a:solidFill>
                  <a:srgbClr val="000000"/>
                </a:solidFill>
                <a:latin typeface="Arial"/>
              </a:rPr>
              <a:t>Tarptautinio pilietinių ir politinių teisių pakto fakultatyvusis protokolas</a:t>
            </a:r>
            <a:r>
              <a:rPr b="0" lang="lt-LT" sz="1800" spc="-1" strike="noStrike">
                <a:solidFill>
                  <a:srgbClr val="000000"/>
                </a:solidFill>
                <a:latin typeface="Arial"/>
              </a:rPr>
              <a:t> </a:t>
            </a:r>
            <a:r>
              <a:rPr b="1" lang="lt-LT" sz="1800" spc="-1" strike="noStrike">
                <a:solidFill>
                  <a:srgbClr val="000000"/>
                </a:solidFill>
                <a:latin typeface="Arial"/>
              </a:rPr>
              <a:t>mirties bausmei panaikinti</a:t>
            </a:r>
            <a:r>
              <a:rPr b="0" lang="lt-LT" sz="1800" spc="-1" strike="noStrike">
                <a:solidFill>
                  <a:srgbClr val="000000"/>
                </a:solidFill>
                <a:latin typeface="Arial"/>
              </a:rPr>
              <a:t> (II fakultatyvinis protokolas)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1966 12 16 </a:t>
            </a:r>
            <a:r>
              <a:rPr b="1" lang="lt-LT" sz="2000" spc="-1" strike="noStrike">
                <a:solidFill>
                  <a:srgbClr val="000000"/>
                </a:solidFill>
                <a:latin typeface="Arial"/>
              </a:rPr>
              <a:t>Tarptautinis ekonominių, socialinių ir kultūrinių teisių paktas</a:t>
            </a:r>
            <a:r>
              <a:rPr b="0" lang="lt-LT" sz="2000" spc="-1" strike="noStrike">
                <a:solidFill>
                  <a:srgbClr val="000000"/>
                </a:solidFill>
                <a:latin typeface="Arial"/>
              </a:rPr>
              <a:t> – universali tarptautinė sutartis (rezultato įsipareigojimai – valstybės “įsipareigoja … visais turimais ištekliais imtis priemonių …, kad laipsniškai būtų visiškai įgyvendintos Pakte pripažįstamos teisė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2008 12 10 </a:t>
            </a:r>
            <a:r>
              <a:rPr b="1" lang="lt-LT" sz="1800" spc="-1" strike="noStrike">
                <a:solidFill>
                  <a:srgbClr val="000000"/>
                </a:solidFill>
                <a:latin typeface="Arial"/>
              </a:rPr>
              <a:t>Tarptautinio ekonominių, socialinių ir kultūrinių teisių pakto fakultatyvusis protokolas</a:t>
            </a:r>
            <a:r>
              <a:rPr b="0" lang="lt-LT" sz="1800" spc="-1" strike="noStrike">
                <a:solidFill>
                  <a:srgbClr val="000000"/>
                </a:solidFill>
                <a:latin typeface="Arial"/>
              </a:rPr>
              <a:t> – steigiamas panašus į Žmogaus teisių komitetą JT Ekonominių, socialinių ir kultūrinių teisių komitetas (valstybių pareiškimų ir individualių peticijų nagrinėj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Žmogaus teisių sąvoka ir klasifikacija</a:t>
            </a:r>
            <a:endParaRPr b="0" lang="en-US" sz="2400" spc="-1" strike="noStrike">
              <a:solidFill>
                <a:srgbClr val="000000"/>
              </a:solidFill>
              <a:latin typeface="Arial"/>
            </a:endParaRPr>
          </a:p>
        </p:txBody>
      </p:sp>
      <p:sp>
        <p:nvSpPr>
          <p:cNvPr id="131"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Žmogaus teisė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prigimtinės ir neatskiriamos nuo kiekvieno žmogaus asmenybės, todėl pripažįstamos valstybių;</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visuomeninės vertybės – teisės ir laisvės, kurių galima reikalauti kiekvienoje visuomenėj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Žmogaus teisės pagal turinį</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elementarios (asmeninės, prigimtinė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pilietinės ir politinė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ekonominės, socialinės ir kultūrinė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Žmogaus teisės pagal subjektą</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individuali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kolektyvinė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Žmogaus teisės pagal jų raidos etapus</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I kartos – individualios teisės (Visuotinės žmogaus teisių deklaracijos katalog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II kartos – kolektyvinės (tautų apsisprendimo teisė, čiabuvių tautų teisė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III kartos – žmogaus ir tautų gerovę apibrėžiančios teisės (teisė į taiką, tolygią plėtrą, sveiką aplinką, vandenį, k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EŽTK įtvirtintų žmogaus teisių klasifikacija</a:t>
            </a:r>
            <a:br>
              <a:rPr sz="2400"/>
            </a:br>
            <a:r>
              <a:rPr b="0" lang="lt-LT" sz="1800" spc="-1" strike="noStrike">
                <a:solidFill>
                  <a:srgbClr val="000000"/>
                </a:solidFill>
                <a:latin typeface="Arial"/>
              </a:rPr>
              <a:t>(elementarios, pilietinės ir politinės teisės)</a:t>
            </a:r>
            <a:endParaRPr b="0" lang="en-US" sz="1800" spc="-1" strike="noStrike">
              <a:solidFill>
                <a:srgbClr val="000000"/>
              </a:solidFill>
              <a:latin typeface="Arial"/>
            </a:endParaRPr>
          </a:p>
        </p:txBody>
      </p:sp>
      <p:sp>
        <p:nvSpPr>
          <p:cNvPr id="133" name="PlaceHolder 2"/>
          <p:cNvSpPr>
            <a:spLocks noGrp="1"/>
          </p:cNvSpPr>
          <p:nvPr>
            <p:ph/>
          </p:nvPr>
        </p:nvSpPr>
        <p:spPr>
          <a:xfrm>
            <a:off x="0" y="620640"/>
            <a:ext cx="9144000" cy="62373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 Pagal turinį:</a:t>
            </a:r>
            <a:endParaRPr b="0" lang="en-US" sz="18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Elementarios teisės</a:t>
            </a:r>
            <a:r>
              <a:rPr b="0" lang="lt-LT" sz="1600" spc="-1" strike="noStrike">
                <a:solidFill>
                  <a:srgbClr val="000000"/>
                </a:solidFill>
                <a:latin typeface="Arial"/>
              </a:rPr>
              <a:t> </a:t>
            </a:r>
            <a:r>
              <a:rPr b="0" lang="lt-LT" sz="1400" spc="-1" strike="noStrike">
                <a:solidFill>
                  <a:srgbClr val="000000"/>
                </a:solidFill>
                <a:latin typeface="Arial"/>
              </a:rPr>
              <a:t>– neatimamos ir neribojamos, be kurių žmogaus asmenybė negalima (EŽTK 2, 3 str. (Konvencijos šerdis) – teisė į gyvybę, apsauga nuo kankinimų ir nežmoniško elgesio; EŽTK 4 str. – vergijos ir priverčiamojo darbo draudimas; 6 ir 13 Protokolai (mirties bausmės panaikinimas), 4 Protokolo 1 str. (draudimas atimti laisvę dėl sutartinės prievolės nevykdymo), EŽTK 14 str. ir 12 Protokolas (diskriminacijos draudima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ė į laisvę ir saugumą</a:t>
            </a:r>
            <a:r>
              <a:rPr b="0" lang="lt-LT" sz="1600" spc="-1" strike="noStrike">
                <a:solidFill>
                  <a:srgbClr val="000000"/>
                </a:solidFill>
                <a:latin typeface="Arial"/>
              </a:rPr>
              <a:t> </a:t>
            </a:r>
            <a:r>
              <a:rPr b="0" lang="lt-LT" sz="1400" spc="-1" strike="noStrike">
                <a:solidFill>
                  <a:srgbClr val="000000"/>
                </a:solidFill>
                <a:latin typeface="Arial"/>
              </a:rPr>
              <a:t>– EŽTK 5 str. (leidžiami teisėti laisvės apribojimo pagrindai ir garantijos sulaikytiesiem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minės garantijos</a:t>
            </a:r>
            <a:r>
              <a:rPr b="0" lang="lt-LT" sz="1600" spc="-1" strike="noStrike">
                <a:solidFill>
                  <a:srgbClr val="000000"/>
                </a:solidFill>
                <a:latin typeface="Arial"/>
              </a:rPr>
              <a:t> </a:t>
            </a:r>
            <a:r>
              <a:rPr b="0" lang="lt-LT" sz="1400" spc="-1" strike="noStrike">
                <a:solidFill>
                  <a:srgbClr val="000000"/>
                </a:solidFill>
                <a:latin typeface="Arial"/>
              </a:rPr>
              <a:t>– teisė į teisingą teismą, baudžiamojo proceso garantijos (įskaitant teisę į apeliaciją ir žalos atlyginimą), </a:t>
            </a:r>
            <a:r>
              <a:rPr b="0" i="1" lang="lt-LT" sz="1400" spc="-1" strike="noStrike">
                <a:solidFill>
                  <a:srgbClr val="000000"/>
                </a:solidFill>
                <a:latin typeface="Arial"/>
              </a:rPr>
              <a:t>nullum crimen sine lege</a:t>
            </a:r>
            <a:r>
              <a:rPr b="0" lang="lt-LT" sz="1400" spc="-1" strike="noStrike">
                <a:solidFill>
                  <a:srgbClr val="000000"/>
                </a:solidFill>
                <a:latin typeface="Arial"/>
              </a:rPr>
              <a:t> ir </a:t>
            </a:r>
            <a:r>
              <a:rPr b="0" i="1" lang="lt-LT" sz="1400" spc="-1" strike="noStrike">
                <a:solidFill>
                  <a:srgbClr val="000000"/>
                </a:solidFill>
                <a:latin typeface="Arial"/>
              </a:rPr>
              <a:t>ne bis in idem, </a:t>
            </a:r>
            <a:r>
              <a:rPr b="0" lang="lt-LT" sz="1400" spc="-1" strike="noStrike">
                <a:solidFill>
                  <a:srgbClr val="000000"/>
                </a:solidFill>
                <a:latin typeface="Arial"/>
              </a:rPr>
              <a:t>teisė į veiksmingą gynybos priemonę (EŽTK 6, 7, 13 str., 7 protokolo 2, 3, 4 str.) </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rivataus ir šeimos gyvenimo neliečiamybė</a:t>
            </a:r>
            <a:r>
              <a:rPr b="0" lang="lt-LT" sz="1600" spc="-1" strike="noStrike">
                <a:solidFill>
                  <a:srgbClr val="000000"/>
                </a:solidFill>
                <a:latin typeface="Arial"/>
              </a:rPr>
              <a:t> </a:t>
            </a:r>
            <a:r>
              <a:rPr b="0" lang="lt-LT" sz="1400" spc="-1" strike="noStrike">
                <a:solidFill>
                  <a:srgbClr val="000000"/>
                </a:solidFill>
                <a:latin typeface="Arial"/>
              </a:rPr>
              <a:t>– pagarba privačiam ir šeimos gyvenimui, būsto ir korespondencijos neliečiamybė, teisė į santuoką ir sutuoktinių lygiateisiškumas, teisė į mokslą (EŽTK 8, 12 str., 1 Protokolo 2 str., 7 Protokolo 5 st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ės laisvės</a:t>
            </a:r>
            <a:r>
              <a:rPr b="0" lang="lt-LT" sz="1600" spc="-1" strike="noStrike">
                <a:solidFill>
                  <a:srgbClr val="000000"/>
                </a:solidFill>
                <a:latin typeface="Arial"/>
              </a:rPr>
              <a:t> </a:t>
            </a:r>
            <a:r>
              <a:rPr b="0" lang="lt-LT" sz="1400" spc="-1" strike="noStrike">
                <a:solidFill>
                  <a:srgbClr val="000000"/>
                </a:solidFill>
                <a:latin typeface="Arial"/>
              </a:rPr>
              <a:t>– demokratijos, kaip Europos viešosios tvarkos, pagrindas: minties, sąžinės ir religijos, saviraiškos, susirinkimų ir asociacijų, rinkimų laisvės (EŽTK 9, 10, 11 str., 1 Protokolo 3 st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Nuosavybės teisė</a:t>
            </a:r>
            <a:r>
              <a:rPr b="0" lang="lt-LT" sz="1600" spc="-1" strike="noStrike">
                <a:solidFill>
                  <a:srgbClr val="000000"/>
                </a:solidFill>
                <a:latin typeface="Arial"/>
              </a:rPr>
              <a:t> </a:t>
            </a:r>
            <a:r>
              <a:rPr b="0" lang="lt-LT" sz="1400" spc="-1" strike="noStrike">
                <a:solidFill>
                  <a:srgbClr val="000000"/>
                </a:solidFill>
                <a:latin typeface="Arial"/>
              </a:rPr>
              <a:t>– socialinė jos paskirtis (1 Protokolo 1 st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Kilnojimosi laisvė ir garantijos prieš savavališką išsiuntimą</a:t>
            </a:r>
            <a:r>
              <a:rPr b="0" lang="lt-LT" sz="1600" spc="-1" strike="noStrike">
                <a:solidFill>
                  <a:srgbClr val="000000"/>
                </a:solidFill>
                <a:latin typeface="Arial"/>
              </a:rPr>
              <a:t> </a:t>
            </a:r>
            <a:r>
              <a:rPr b="0" lang="lt-LT" sz="1400" spc="-1" strike="noStrike">
                <a:solidFill>
                  <a:srgbClr val="000000"/>
                </a:solidFill>
                <a:latin typeface="Arial"/>
              </a:rPr>
              <a:t>– judėjimo laisvė, draudimas išsiųsti piliečius, draudimas kolektyviai ar savavališkai išsiųsti užsieniečius (4 Protokolo 2, 3, 4 str., 7 Protokolo 1 st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II. Pagal apimtį:</a:t>
            </a:r>
            <a:endParaRPr b="0" lang="en-US" sz="18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bsoliučios</a:t>
            </a:r>
            <a:r>
              <a:rPr b="0" lang="lt-LT" sz="1600" spc="-1" strike="noStrike">
                <a:solidFill>
                  <a:srgbClr val="000000"/>
                </a:solidFill>
                <a:latin typeface="Arial"/>
              </a:rPr>
              <a:t> </a:t>
            </a:r>
            <a:r>
              <a:rPr b="0" lang="lt-LT" sz="1400" spc="-1" strike="noStrike">
                <a:solidFill>
                  <a:srgbClr val="000000"/>
                </a:solidFill>
                <a:latin typeface="Arial"/>
              </a:rPr>
              <a:t>– besąlyginės ir neribojamos – elementarios teisės: teisė į gyvybę, kankinimų ir vergijos draudimas, </a:t>
            </a:r>
            <a:r>
              <a:rPr b="0" i="1" lang="lt-LT" sz="1400" spc="-1" strike="noStrike">
                <a:solidFill>
                  <a:srgbClr val="000000"/>
                </a:solidFill>
                <a:latin typeface="Arial"/>
              </a:rPr>
              <a:t>nullum crimen sine lege</a:t>
            </a:r>
            <a:r>
              <a:rPr b="0" lang="lt-LT" sz="1400" spc="-1" strike="noStrike">
                <a:solidFill>
                  <a:srgbClr val="000000"/>
                </a:solidFill>
                <a:latin typeface="Arial"/>
              </a:rPr>
              <a:t>,</a:t>
            </a:r>
            <a:r>
              <a:rPr b="0" i="1" lang="lt-LT" sz="1400" spc="-1" strike="noStrike">
                <a:solidFill>
                  <a:srgbClr val="000000"/>
                </a:solidFill>
                <a:latin typeface="Arial"/>
              </a:rPr>
              <a:t> ne bis in idem</a:t>
            </a:r>
            <a:r>
              <a:rPr b="0" lang="lt-LT" sz="1400" spc="-1" strike="noStrike">
                <a:solidFill>
                  <a:srgbClr val="000000"/>
                </a:solidFill>
                <a:latin typeface="Arial"/>
              </a:rPr>
              <a:t> (EŽTK 2, 3 str., 4 str. 1 d., 7 str., 7 Protokolo 4 st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Ribojamos</a:t>
            </a:r>
            <a:r>
              <a:rPr b="0" lang="lt-LT" sz="1600" spc="-1" strike="noStrike">
                <a:solidFill>
                  <a:srgbClr val="000000"/>
                </a:solidFill>
                <a:latin typeface="Arial"/>
              </a:rPr>
              <a:t> </a:t>
            </a:r>
            <a:r>
              <a:rPr b="0" lang="lt-LT" sz="1400" spc="-1" strike="noStrike">
                <a:solidFill>
                  <a:srgbClr val="000000"/>
                </a:solidFill>
                <a:latin typeface="Arial"/>
              </a:rPr>
              <a:t>– EŽTK nustatyti ribojimo pagrindai, nėra valstybių nuožiūros laisvės: teisė į laisvę (EŽTK 5 str., 4 Protokolo 1 st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ąlyginės</a:t>
            </a:r>
            <a:r>
              <a:rPr b="0" lang="lt-LT" sz="1600" spc="-1" strike="noStrike">
                <a:solidFill>
                  <a:srgbClr val="000000"/>
                </a:solidFill>
                <a:latin typeface="Arial"/>
              </a:rPr>
              <a:t> </a:t>
            </a:r>
            <a:r>
              <a:rPr b="0" lang="lt-LT" sz="1400" spc="-1" strike="noStrike">
                <a:solidFill>
                  <a:srgbClr val="000000"/>
                </a:solidFill>
                <a:latin typeface="Arial"/>
              </a:rPr>
              <a:t>– ribojamos valstybių nuožiūros laisvės (</a:t>
            </a:r>
            <a:r>
              <a:rPr b="0" i="1" lang="lt-LT" sz="1400" spc="-1" strike="noStrike">
                <a:solidFill>
                  <a:srgbClr val="000000"/>
                </a:solidFill>
                <a:latin typeface="Arial"/>
              </a:rPr>
              <a:t>margin of appreciation</a:t>
            </a:r>
            <a:r>
              <a:rPr b="0" lang="lt-LT" sz="1400" spc="-1" strike="noStrike">
                <a:solidFill>
                  <a:srgbClr val="000000"/>
                </a:solidFill>
                <a:latin typeface="Arial"/>
              </a:rPr>
              <a:t>) ribose atsižvelgiant į individualias politines, istorines, socialines ir ekonomines sąlygas, EŽTK nenustato ribojimo pagrindų, tik sąlygas ir kriterijus:</a:t>
            </a:r>
            <a:r>
              <a:rPr b="0" lang="lt-LT" sz="1600" spc="-1" strike="noStrike">
                <a:solidFill>
                  <a:srgbClr val="000000"/>
                </a:solidFill>
                <a:latin typeface="Arial"/>
              </a:rPr>
              <a:t> </a:t>
            </a:r>
            <a:r>
              <a:rPr b="0" lang="lt-LT" sz="1400" spc="-1" strike="noStrike">
                <a:solidFill>
                  <a:srgbClr val="000000"/>
                </a:solidFill>
                <a:latin typeface="Arial"/>
              </a:rPr>
              <a:t>privataus ir šeimos gyvenimo neliečiamybė, pagrindinės laisvės, nuosavybės teisė, kilnojimosi laisvė ir draudimas savavališkai išsiųsti užsieniečius (EŽTK 8, 9, 10, 11, 12 str., 1 Protokolo 1, 2, 3 str., 4 Protokolo 2 str., 7 Protokolo 1, 5 st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Žmogaus teisių ribojimų rūšys, pagrindai, sąlygos ir kriterijai</a:t>
            </a:r>
            <a:br>
              <a:rPr sz="1800"/>
            </a:br>
            <a:r>
              <a:rPr b="0" lang="lt-LT" sz="1600" spc="-1" strike="noStrike">
                <a:solidFill>
                  <a:srgbClr val="000000"/>
                </a:solidFill>
                <a:latin typeface="Arial"/>
              </a:rPr>
              <a:t>(EŽTK 15 str. ir sąlyginės teisės, TPPTP 4 str. ir sąlyginės teisės, TESKTP 4 str.)</a:t>
            </a:r>
            <a:endParaRPr b="0" lang="en-US" sz="1600" spc="-1" strike="noStrike">
              <a:solidFill>
                <a:srgbClr val="000000"/>
              </a:solidFill>
              <a:latin typeface="Arial"/>
            </a:endParaRPr>
          </a:p>
        </p:txBody>
      </p:sp>
      <p:sp>
        <p:nvSpPr>
          <p:cNvPr id="135"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Laikini ribojim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agrindas – karo ar kitokia nepaprastoji padėtis, dėl kurios kyla grėsmė valstybės (tautos) gyvavimu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ibojimai tik ribojamoms ir sąlyginėms teisėms (absoliučios neribojam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ibojimų kriterijai – būtinumas ir proporcingumas (tiek, kiek reikia dėl susidariusios padė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ibojimų sąlygos – neprieštaravimas kitiems tarptautiniams įsipareigojimams (pvz., dėl prievartinių dingimų draudimo) ir nediskriminuojantis pobūdis (TPPTP tik, bet be politinio ir pilietinio statuso kriterija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rocedūrinis reikalavimas – depozitaro (ET ar JT Generalinio sekretoriaus) informavimas apie priemones ir jų priežastis bei jų nutrau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Nuolatiniai ribojim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aikomi ir nepaprastosios padėties, ir įprastinėmis sąlygom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ribojimai ribojamoms ir sąlyginėms teisėms (ribojamoms pagrindus nustato tarptautinė teisė, taikomi būtinumo ir proporcingumo kriterijai, o </a:t>
            </a:r>
            <a:r>
              <a:rPr b="1" lang="lt-LT" sz="1800" spc="-1" strike="noStrike">
                <a:solidFill>
                  <a:srgbClr val="000000"/>
                </a:solidFill>
                <a:latin typeface="Arial"/>
              </a:rPr>
              <a:t>sąlyginėms – valstybė nuožiūros laisvės ribose laikydamasi žemiau pateiktų sąlygų ir kriterijų</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įstatyminis ribojimų pagrindas</a:t>
            </a:r>
            <a:r>
              <a:rPr b="0" lang="lt-LT" sz="1800" spc="-1" strike="noStrike">
                <a:solidFill>
                  <a:srgbClr val="000000"/>
                </a:solidFill>
                <a:latin typeface="Arial"/>
              </a:rPr>
              <a:t> – nustatomi įstatymu (viešum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EŽTK įvardintas </a:t>
            </a:r>
            <a:r>
              <a:rPr b="1" lang="lt-LT" sz="1800" spc="-1" strike="noStrike">
                <a:solidFill>
                  <a:srgbClr val="000000"/>
                </a:solidFill>
                <a:latin typeface="Arial"/>
              </a:rPr>
              <a:t>teisėtas tikslas</a:t>
            </a:r>
            <a:r>
              <a:rPr b="0" lang="lt-LT" sz="1800" spc="-1" strike="noStrike">
                <a:solidFill>
                  <a:srgbClr val="000000"/>
                </a:solidFill>
                <a:latin typeface="Arial"/>
              </a:rPr>
              <a:t> </a:t>
            </a:r>
            <a:r>
              <a:rPr b="0" lang="lt-LT" sz="1600" spc="-1" strike="noStrike">
                <a:solidFill>
                  <a:srgbClr val="000000"/>
                </a:solidFill>
                <a:latin typeface="Arial"/>
              </a:rPr>
              <a:t>– valstybės ir visuomenės saugumas, ekonominė gerovė, viešoji tvarka, nusikaltimų prevencija, žmonių sveikatos ar moralės apsauga, kitų asmenų teisių ir laisvių apsaug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būtinumas demokratinėje visuomenėje</a:t>
            </a:r>
            <a:r>
              <a:rPr b="0" lang="lt-LT" sz="1800" spc="-1" strike="noStrike">
                <a:solidFill>
                  <a:srgbClr val="000000"/>
                </a:solidFill>
                <a:latin typeface="Arial"/>
              </a:rPr>
              <a:t> </a:t>
            </a:r>
            <a:r>
              <a:rPr b="0" lang="lt-LT" sz="1600" spc="-1" strike="noStrike">
                <a:solidFill>
                  <a:srgbClr val="000000"/>
                </a:solidFill>
                <a:latin typeface="Arial"/>
              </a:rPr>
              <a:t>(visuomeninis imperatyvas – </a:t>
            </a:r>
            <a:r>
              <a:rPr b="0" i="1" lang="lt-LT" sz="1600" spc="-1" strike="noStrike">
                <a:solidFill>
                  <a:srgbClr val="000000"/>
                </a:solidFill>
                <a:latin typeface="Arial"/>
              </a:rPr>
              <a:t>pressing social need</a:t>
            </a:r>
            <a:r>
              <a:rPr b="0" lang="lt-LT" sz="1600" spc="-1" strike="noStrike">
                <a:solidFill>
                  <a:srgbClr val="000000"/>
                </a:solidFill>
                <a:latin typeface="Arial"/>
              </a:rPr>
              <a:t>) – ne daugumos diktatūros, o pliuralistinės ir gerbiančios mažumas visuomenės poreikia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proporcingumas</a:t>
            </a:r>
            <a:r>
              <a:rPr b="0" lang="lt-LT" sz="1800" spc="-1" strike="noStrike">
                <a:solidFill>
                  <a:srgbClr val="000000"/>
                </a:solidFill>
                <a:latin typeface="Arial"/>
              </a:rPr>
              <a:t> tikslui </a:t>
            </a:r>
            <a:r>
              <a:rPr b="0" lang="lt-LT" sz="1600" spc="-1" strike="noStrike">
                <a:solidFill>
                  <a:srgbClr val="000000"/>
                </a:solidFill>
                <a:latin typeface="Arial"/>
              </a:rPr>
              <a:t>(pakankama individualizacija, nepaneigiama teisės esmė ir veiksmingu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JT Žmogaus teisių komiteto kompetencija ir jurisdikcija</a:t>
            </a:r>
            <a:br>
              <a:rPr sz="2000"/>
            </a:br>
            <a:r>
              <a:rPr b="0" lang="lt-LT" sz="1600" spc="-1" strike="noStrike">
                <a:solidFill>
                  <a:srgbClr val="000000"/>
                </a:solidFill>
                <a:latin typeface="Arial"/>
              </a:rPr>
              <a:t>(TPPTP 40-42 str., TPPTP I fakultatyvinio protokolo 1-5 str.)</a:t>
            </a:r>
            <a:endParaRPr b="0" lang="en-US" sz="1600" spc="-1" strike="noStrike">
              <a:solidFill>
                <a:srgbClr val="000000"/>
              </a:solidFill>
              <a:latin typeface="Arial"/>
            </a:endParaRPr>
          </a:p>
        </p:txBody>
      </p:sp>
      <p:sp>
        <p:nvSpPr>
          <p:cNvPr id="137" name="PlaceHolder 2"/>
          <p:cNvSpPr>
            <a:spLocks noGrp="1"/>
          </p:cNvSpPr>
          <p:nvPr>
            <p:ph/>
          </p:nvPr>
        </p:nvSpPr>
        <p:spPr>
          <a:xfrm>
            <a:off x="-27000" y="475920"/>
            <a:ext cx="9144000" cy="6350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mpetencija</a:t>
            </a:r>
            <a:r>
              <a:rPr b="0" lang="lt-LT" sz="1800" spc="-1" strike="noStrike">
                <a:solidFill>
                  <a:srgbClr val="000000"/>
                </a:solidFill>
                <a:latin typeface="Arial"/>
              </a:rPr>
              <a:t> – TPPTP įgyvendinimo kontrolė (kontrolinės funkcijo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Bendroji kontrolė</a:t>
            </a:r>
            <a:r>
              <a:rPr b="0" lang="lt-LT" sz="1600" spc="-1" strike="noStrike">
                <a:solidFill>
                  <a:srgbClr val="000000"/>
                </a:solidFill>
                <a:latin typeface="Arial"/>
              </a:rPr>
              <a:t> – valstybių periodinių ataskaitų (per 1 m. ir po to kas 5 m.) apie Pakto įgyvendinimą nagrinėjimas ir pastabų teikima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pecialioji kontrolė</a:t>
            </a:r>
            <a:r>
              <a:rPr b="0" lang="lt-LT" sz="1600" spc="-1" strike="noStrike">
                <a:solidFill>
                  <a:srgbClr val="000000"/>
                </a:solidFill>
                <a:latin typeface="Arial"/>
              </a:rPr>
              <a:t> – ginčų dėl TPPTP pažeidimų sprendimas (sutaikymo mechanizmas): tarpvalstybiniai ginčai (Pakto 41 str.) ir individualios peticijos (I fakultatyvinio protokolo 1-5 str.)</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Jurisdikcijos</a:t>
            </a:r>
            <a:r>
              <a:rPr b="0" lang="lt-LT" sz="1800" spc="-1" strike="noStrike">
                <a:solidFill>
                  <a:srgbClr val="000000"/>
                </a:solidFill>
                <a:latin typeface="Arial"/>
              </a:rPr>
              <a:t> ginčams spręsti sąlyg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
          <p:cNvSpPr/>
          <p:nvPr/>
        </p:nvSpPr>
        <p:spPr>
          <a:xfrm>
            <a:off x="22320" y="2214720"/>
            <a:ext cx="4572000" cy="35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Valstybių pareiškimams nagrinė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Ginčo šalys pripažįsta Komiteto kompetenciją gauti ir nagrinėti valstybių pareiškimus (pgl. Pakto 41 str. 1 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materiae</a:t>
            </a:r>
            <a:r>
              <a:rPr b="0" lang="lt-LT" sz="1400" spc="-1" strike="noStrike">
                <a:solidFill>
                  <a:srgbClr val="000000"/>
                </a:solidFill>
                <a:latin typeface="Arial"/>
              </a:rPr>
              <a:t>: Pakte įtvirtintos žmogaus teisės (Pakto nuostatos) pažeidi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loci</a:t>
            </a:r>
            <a:r>
              <a:rPr b="0" lang="lt-LT" sz="1400" spc="-1" strike="noStrike">
                <a:solidFill>
                  <a:srgbClr val="000000"/>
                </a:solidFill>
                <a:latin typeface="Arial"/>
              </a:rPr>
              <a:t>: pažeidžiamos atsakingos valstybės jurisdikcijai priklausančio asmens teisė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temporis</a:t>
            </a:r>
            <a:r>
              <a:rPr b="0" lang="lt-LT" sz="1400" spc="-1" strike="noStrike">
                <a:solidFill>
                  <a:srgbClr val="000000"/>
                </a:solidFill>
                <a:latin typeface="Arial"/>
              </a:rPr>
              <a:t>: 1) pažeidimas įsigaliojus Paktui atsakingai valstybei; 2) bet kada klausimo neišsprendus per 6 mėn. nuo pirmutinio pranešim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Vidaus teisinės gynybos priemonių išsėmimo taisyklė (</a:t>
            </a:r>
            <a:r>
              <a:rPr b="0" i="1" lang="lt-LT" sz="1400" spc="-1" strike="noStrike">
                <a:solidFill>
                  <a:srgbClr val="000000"/>
                </a:solidFill>
                <a:latin typeface="Arial"/>
              </a:rPr>
              <a:t>local remedies rule</a:t>
            </a:r>
            <a:r>
              <a:rPr b="0" lang="lt-LT" sz="1400" spc="-1" strike="noStrike">
                <a:solidFill>
                  <a:srgbClr val="000000"/>
                </a:solidFill>
                <a:latin typeface="Arial"/>
              </a:rPr>
              <a:t>): prieinamos ir veiksmingos priemonė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TextBox 2"/>
          <p:cNvSpPr/>
          <p:nvPr/>
        </p:nvSpPr>
        <p:spPr>
          <a:xfrm>
            <a:off x="4567320" y="2246400"/>
            <a:ext cx="4572000" cy="46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Individualioms peticijoms nagrinė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sakinga valstybė yra I fakultatyvinio protokolo šal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materiae</a:t>
            </a:r>
            <a:r>
              <a:rPr b="0" lang="lt-LT" sz="1400" spc="-1" strike="noStrike">
                <a:solidFill>
                  <a:srgbClr val="000000"/>
                </a:solidFill>
                <a:latin typeface="Arial"/>
              </a:rPr>
              <a:t>: Pakte įtvirtintos žmogaus teisės (Pakto nuostatos) pažeidi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personae</a:t>
            </a:r>
            <a:r>
              <a:rPr b="0" lang="lt-LT" sz="1400" spc="-1" strike="noStrike">
                <a:solidFill>
                  <a:srgbClr val="000000"/>
                </a:solidFill>
                <a:latin typeface="Arial"/>
              </a:rPr>
              <a:t>: </a:t>
            </a:r>
            <a:r>
              <a:rPr b="0" lang="lt-LT" sz="1400" spc="-1" strike="noStrike" u="sng">
                <a:solidFill>
                  <a:srgbClr val="000000"/>
                </a:solidFill>
                <a:uFillTx/>
                <a:latin typeface="Arial"/>
              </a:rPr>
              <a:t>tik fizinis asmuo</a:t>
            </a:r>
            <a:r>
              <a:rPr b="0" lang="lt-LT" sz="1400" spc="-1" strike="noStrike">
                <a:solidFill>
                  <a:srgbClr val="000000"/>
                </a:solidFill>
                <a:latin typeface="Arial"/>
              </a:rPr>
              <a:t>, kuris yra pažeidimo auk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loci</a:t>
            </a:r>
            <a:r>
              <a:rPr b="0" lang="lt-LT" sz="1400" spc="-1" strike="noStrike">
                <a:solidFill>
                  <a:srgbClr val="000000"/>
                </a:solidFill>
                <a:latin typeface="Arial"/>
              </a:rPr>
              <a:t>: pažeidžiamos atsakingos valstybės jurisdikcijai priklausančio asmens teisė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i="1" lang="lt-LT" sz="1400" spc="-1" strike="noStrike">
                <a:solidFill>
                  <a:srgbClr val="000000"/>
                </a:solidFill>
                <a:latin typeface="Arial"/>
              </a:rPr>
              <a:t>Ratione temporis</a:t>
            </a:r>
            <a:r>
              <a:rPr b="0" lang="lt-LT" sz="1400" spc="-1" strike="noStrike">
                <a:solidFill>
                  <a:srgbClr val="000000"/>
                </a:solidFill>
                <a:latin typeface="Arial"/>
              </a:rPr>
              <a:t>: 1) pažeidimas įsigaliojus Paktui atsakingai valstybei; 2) nėra apribojimo – bet kada po galutinio nacionalinio sprendim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Vidaus teisinės gynybos priemonių išsėmimo taisyklė (</a:t>
            </a:r>
            <a:r>
              <a:rPr b="0" i="1" lang="lt-LT" sz="1400" spc="-1" strike="noStrike">
                <a:solidFill>
                  <a:srgbClr val="000000"/>
                </a:solidFill>
                <a:latin typeface="Arial"/>
              </a:rPr>
              <a:t>local remedies rule</a:t>
            </a:r>
            <a:r>
              <a:rPr b="0" lang="lt-LT" sz="1400" spc="-1" strike="noStrike">
                <a:solidFill>
                  <a:srgbClr val="000000"/>
                </a:solidFill>
                <a:latin typeface="Arial"/>
              </a:rPr>
              <a:t>): prieinamos ir veiksmingos priemonė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0" lang="lt-LT" sz="1400" spc="-1" strike="noStrike" u="sng">
                <a:solidFill>
                  <a:srgbClr val="000000"/>
                </a:solidFill>
                <a:uFillTx/>
                <a:latin typeface="Arial"/>
              </a:rPr>
              <a:t>Kitos priimtinumo sąlygos individualioms peticijoms</a:t>
            </a:r>
            <a:r>
              <a:rPr b="0" lang="lt-LT" sz="1400" spc="-1" strike="noStrike">
                <a:solidFill>
                  <a:srgbClr val="000000"/>
                </a:solidFill>
                <a:latin typeface="Arial"/>
              </a:rPr>
              <a:t>: peticija nėra anoniminė, nėra piktnaudžiavimas peticijos teise, nėra nesuderinama su Pakto nuostatomis (pgl. 5 str. neginama veikla prieš Pakte pripažintas teises ar laisves), nėra nagrinėjama kitos tarptautinės institucijos (pvz., EŽTT, AŽTK ar AŽT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iplomatinės ir konsulinės teisės pagrindai</a:t>
            </a:r>
            <a:endParaRPr b="0" lang="en-US" sz="2400" spc="-1" strike="noStrike">
              <a:solidFill>
                <a:srgbClr val="000000"/>
              </a:solidFill>
              <a:latin typeface="Arial"/>
            </a:endParaRPr>
          </a:p>
        </p:txBody>
      </p:sp>
      <p:sp>
        <p:nvSpPr>
          <p:cNvPr id="54"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ė ir konsulinė teisė</a:t>
            </a:r>
            <a:r>
              <a:rPr b="0" lang="lt-LT" sz="2000" spc="-1" strike="noStrike">
                <a:solidFill>
                  <a:srgbClr val="000000"/>
                </a:solidFill>
                <a:latin typeface="Arial"/>
              </a:rPr>
              <a:t> – kompleksinė tarptautinės teisės šaka, kurios normos reglamentuoja taikių ir oficialių santykių palaikymą tarp valstybių ir kitų tarptautinės teisės subjektų per specialias užsienio (išorės) santykių institucij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DKT sistema:</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1. Diplomatinė teisė:</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1. Klasikinė (tarpvalstybinė) diplomatinė teis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1.1. Nuolatinio diplomatinio atstovavimo teisė (nuolatinės diplomatinės atstovybės bei diplomatinės privilegijos ir imunitet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1.2. Specialiųjų misijų teisė (</a:t>
            </a:r>
            <a:r>
              <a:rPr b="0" i="1" lang="lt-LT" sz="1800" spc="-1" strike="noStrike">
                <a:solidFill>
                  <a:srgbClr val="000000"/>
                </a:solidFill>
                <a:latin typeface="Arial"/>
              </a:rPr>
              <a:t>ad hoc</a:t>
            </a:r>
            <a:r>
              <a:rPr b="0" lang="lt-LT" sz="1800" spc="-1" strike="noStrike">
                <a:solidFill>
                  <a:srgbClr val="000000"/>
                </a:solidFill>
                <a:latin typeface="Arial"/>
              </a:rPr>
              <a:t> atstovavi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2. Tarptautinių organizacijų diplomatinė teis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2.1. Tarptautinių organizacijų diplomatinių santykių teisė (aktyvus atstovavi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2.2. Valstybių atstovavimo tarptautinėse organizacijose teisė (pasyvus atstovavi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2. Konsulinė teisė:</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1. Konsulinių įstaigų teis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2. Konsulinių funkcijų teis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2.3. Konsulinės privilegijos ir imunitet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Europos Žmogaus Teisių Teismo jurisdikcija</a:t>
            </a:r>
            <a:br>
              <a:rPr sz="2000"/>
            </a:br>
            <a:r>
              <a:rPr b="0" lang="lt-LT" sz="1600" spc="-1" strike="noStrike">
                <a:solidFill>
                  <a:srgbClr val="000000"/>
                </a:solidFill>
                <a:latin typeface="Arial"/>
              </a:rPr>
              <a:t>(EŽTK 32-35 str.; 47 str. – konsultacinė jurisdikcija pagal ET MK prašymą; 16 protokolas – konsultacinė jurisdikcija pagal nacionalinių aukščiausių teismų prašymą)</a:t>
            </a:r>
            <a:endParaRPr b="0" lang="en-US" sz="1600" spc="-1" strike="noStrike">
              <a:solidFill>
                <a:srgbClr val="000000"/>
              </a:solidFill>
              <a:latin typeface="Arial"/>
            </a:endParaRPr>
          </a:p>
        </p:txBody>
      </p:sp>
      <p:sp>
        <p:nvSpPr>
          <p:cNvPr id="141" name=""/>
          <p:cNvSpPr txBox="1"/>
          <p:nvPr/>
        </p:nvSpPr>
        <p:spPr>
          <a:xfrm>
            <a:off x="0" y="836640"/>
            <a:ext cx="9144000" cy="6021360"/>
          </a:xfrm>
          <a:prstGeom prst="rect">
            <a:avLst/>
          </a:prstGeom>
          <a:noFill/>
          <a:ln w="0">
            <a:noFill/>
          </a:ln>
        </p:spPr>
        <p:txBody>
          <a:bodyPr anchor="t">
            <a:normAutofit fontScale="99000"/>
          </a:bodyPr>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900" spc="-1" strike="noStrike">
                <a:solidFill>
                  <a:srgbClr val="000000"/>
                </a:solidFill>
                <a:latin typeface="Arial"/>
              </a:rPr>
              <a:t>Tarpvalstybinės bylos </a:t>
            </a:r>
            <a:r>
              <a:rPr b="0" lang="lt-LT" sz="1900" spc="-1" strike="noStrike">
                <a:solidFill>
                  <a:srgbClr val="000000"/>
                </a:solidFill>
                <a:latin typeface="Arial"/>
              </a:rPr>
              <a:t>(EŽTK šalys) ir </a:t>
            </a:r>
            <a:r>
              <a:rPr b="1" lang="lt-LT" sz="1900" spc="-1" strike="noStrike">
                <a:solidFill>
                  <a:srgbClr val="000000"/>
                </a:solidFill>
                <a:latin typeface="Arial"/>
              </a:rPr>
              <a:t>individualios peticijos</a:t>
            </a:r>
            <a:r>
              <a:rPr b="0" lang="lt-LT" sz="1900" spc="-1" strike="noStrike">
                <a:solidFill>
                  <a:srgbClr val="000000"/>
                </a:solidFill>
                <a:latin typeface="Arial"/>
              </a:rPr>
              <a:t> (EŽTK šalis ir pažeidimo metu jos jurisdikcijai priklausęs asmuo)</a:t>
            </a:r>
            <a:endParaRPr b="0" lang="en-US" sz="19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0" i="1" lang="lt-LT" sz="1700" spc="-1" strike="noStrike">
                <a:solidFill>
                  <a:srgbClr val="000000"/>
                </a:solidFill>
                <a:latin typeface="Arial"/>
              </a:rPr>
              <a:t>Ratione personae</a:t>
            </a:r>
            <a:r>
              <a:rPr b="0" lang="lt-LT" sz="1700" spc="-1" strike="noStrike">
                <a:solidFill>
                  <a:srgbClr val="000000"/>
                </a:solidFill>
                <a:latin typeface="Arial"/>
              </a:rPr>
              <a:t> individualioms peticijoms: ne tik fizinis asmuo, bet ir </a:t>
            </a:r>
            <a:r>
              <a:rPr b="0" lang="lt-LT" sz="1700" spc="-1" strike="noStrike" u="sng">
                <a:solidFill>
                  <a:srgbClr val="000000"/>
                </a:solidFill>
                <a:uFillTx/>
                <a:latin typeface="Arial"/>
              </a:rPr>
              <a:t>asmenų grupė</a:t>
            </a:r>
            <a:r>
              <a:rPr b="0" lang="lt-LT" sz="1700" spc="-1" strike="noStrike">
                <a:solidFill>
                  <a:srgbClr val="000000"/>
                </a:solidFill>
                <a:latin typeface="Arial"/>
              </a:rPr>
              <a:t> bei </a:t>
            </a:r>
            <a:r>
              <a:rPr b="0" lang="lt-LT" sz="1700" spc="-1" strike="noStrike" u="sng">
                <a:solidFill>
                  <a:srgbClr val="000000"/>
                </a:solidFill>
                <a:uFillTx/>
                <a:latin typeface="Arial"/>
              </a:rPr>
              <a:t>nevyriausybinė organizacija</a:t>
            </a:r>
            <a:r>
              <a:rPr b="0" lang="lt-LT" sz="1700" spc="-1" strike="noStrike">
                <a:solidFill>
                  <a:srgbClr val="000000"/>
                </a:solidFill>
                <a:latin typeface="Arial"/>
              </a:rPr>
              <a:t>, esantys pažeidimų aukomis</a:t>
            </a:r>
            <a:endParaRPr b="0" lang="en-US" sz="17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900" spc="-1" strike="noStrike">
                <a:solidFill>
                  <a:srgbClr val="000000"/>
                </a:solidFill>
                <a:latin typeface="Arial"/>
              </a:rPr>
              <a:t>Bendros priimtinumo sąlygos:</a:t>
            </a:r>
            <a:endParaRPr b="0" lang="en-US" sz="19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0" i="1" lang="lt-LT" sz="1700" spc="-1" strike="noStrike">
                <a:solidFill>
                  <a:srgbClr val="000000"/>
                </a:solidFill>
                <a:latin typeface="Arial"/>
              </a:rPr>
              <a:t>Ratione materiae</a:t>
            </a:r>
            <a:r>
              <a:rPr b="0" lang="lt-LT" sz="1700" spc="-1" strike="noStrike">
                <a:solidFill>
                  <a:srgbClr val="000000"/>
                </a:solidFill>
                <a:latin typeface="Arial"/>
              </a:rPr>
              <a:t>: EŽTK įtvirtintos žmogaus teisės ar laisvės pažeidimas</a:t>
            </a: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0" i="1" lang="lt-LT" sz="1700" spc="-1" strike="noStrike">
                <a:solidFill>
                  <a:srgbClr val="000000"/>
                </a:solidFill>
                <a:latin typeface="Arial"/>
              </a:rPr>
              <a:t>Ratione loci</a:t>
            </a:r>
            <a:r>
              <a:rPr b="0" lang="lt-LT" sz="1700" spc="-1" strike="noStrike">
                <a:solidFill>
                  <a:srgbClr val="000000"/>
                </a:solidFill>
                <a:latin typeface="Arial"/>
              </a:rPr>
              <a:t>: pažeidžiamos atsakingos valstybės jurisdikcijai priklausančio asmens teisės</a:t>
            </a: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0" i="1" lang="lt-LT" sz="1700" spc="-1" strike="noStrike">
                <a:solidFill>
                  <a:srgbClr val="000000"/>
                </a:solidFill>
                <a:latin typeface="Arial"/>
              </a:rPr>
              <a:t>Ratione temporis</a:t>
            </a:r>
            <a:r>
              <a:rPr b="0" lang="lt-LT" sz="1700" spc="-1" strike="noStrike">
                <a:solidFill>
                  <a:srgbClr val="000000"/>
                </a:solidFill>
                <a:latin typeface="Arial"/>
              </a:rPr>
              <a:t>: 1) pažeidimas įsigaliojus EŽTK atsakingai valstybei; 2) peticija pateikiama per 6 mėn. nuo galutinio nacionalinio sprendimo</a:t>
            </a: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Vidaus teisinės gynybos priemonių išsėmimo taisyklė (</a:t>
            </a:r>
            <a:r>
              <a:rPr b="0" i="1" lang="lt-LT" sz="1700" spc="-1" strike="noStrike">
                <a:solidFill>
                  <a:srgbClr val="000000"/>
                </a:solidFill>
                <a:latin typeface="Arial"/>
              </a:rPr>
              <a:t>exhaustion of local remedies rule</a:t>
            </a:r>
            <a:r>
              <a:rPr b="0" lang="lt-LT" sz="1700" spc="-1" strike="noStrike">
                <a:solidFill>
                  <a:srgbClr val="000000"/>
                </a:solidFill>
                <a:latin typeface="Arial"/>
              </a:rPr>
              <a:t>): prieinamos ir veiksmingos priemonės</a:t>
            </a:r>
            <a:endParaRPr b="0" lang="en-US" sz="17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900" spc="-1" strike="noStrike">
                <a:solidFill>
                  <a:srgbClr val="000000"/>
                </a:solidFill>
                <a:latin typeface="Arial"/>
              </a:rPr>
              <a:t>Papildomos individualių peticijų priimtinumo sąlygos:</a:t>
            </a:r>
            <a:endParaRPr b="0" lang="en-US" sz="19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peticija nėra anoniminė</a:t>
            </a: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peticija nėra nagrinėjama kitos tarptautinės institucijos (pvz., JT ŽTK)</a:t>
            </a: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peticija nėra piktnaudžiavimas peticijos teise</a:t>
            </a:r>
            <a:endParaRPr b="0" lang="en-US" sz="1700" spc="-1" strike="noStrike">
              <a:solidFill>
                <a:srgbClr val="000000"/>
              </a:solidFill>
              <a:latin typeface="Arial"/>
            </a:endParaRPr>
          </a:p>
          <a:p>
            <a:pPr marL="339480" indent="-3394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peticija nėra nesuderinama su EŽTK nuostatomis </a:t>
            </a:r>
            <a:r>
              <a:rPr b="0" lang="lt-LT" sz="1500" spc="-1" strike="noStrike">
                <a:solidFill>
                  <a:srgbClr val="000000"/>
                </a:solidFill>
                <a:latin typeface="Arial"/>
              </a:rPr>
              <a:t>(17 str. – </a:t>
            </a:r>
            <a:r>
              <a:rPr b="0" i="1" lang="lt-LT" sz="1500" spc="-1" strike="noStrike">
                <a:solidFill>
                  <a:srgbClr val="000000"/>
                </a:solidFill>
                <a:latin typeface="Arial"/>
              </a:rPr>
              <a:t>democracy capable to defend itself</a:t>
            </a:r>
            <a:r>
              <a:rPr b="0" lang="lt-LT" sz="1500" spc="-1" strike="noStrike">
                <a:solidFill>
                  <a:srgbClr val="000000"/>
                </a:solidFill>
                <a:latin typeface="Arial"/>
              </a:rPr>
              <a:t> koncepcija)</a:t>
            </a:r>
            <a:endParaRPr b="0" lang="en-US" sz="15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peticija nėra akivaizdžiai nepagrįsta (</a:t>
            </a:r>
            <a:r>
              <a:rPr b="0" i="1" lang="lt-LT" sz="1700" spc="-1" strike="noStrike">
                <a:solidFill>
                  <a:srgbClr val="000000"/>
                </a:solidFill>
                <a:latin typeface="Arial"/>
              </a:rPr>
              <a:t>manifestly ill-founded</a:t>
            </a:r>
            <a:r>
              <a:rPr b="0" lang="lt-LT" sz="1700" spc="-1" strike="noStrike">
                <a:solidFill>
                  <a:srgbClr val="000000"/>
                </a:solidFill>
                <a:latin typeface="Arial"/>
              </a:rPr>
              <a:t>)</a:t>
            </a:r>
            <a:endParaRPr b="0" lang="en-US" sz="1700" spc="-1" strike="noStrike">
              <a:solidFill>
                <a:srgbClr val="000000"/>
              </a:solidFill>
              <a:latin typeface="Arial"/>
            </a:endParaRPr>
          </a:p>
          <a:p>
            <a:pPr marL="339480" indent="-3394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1" lang="lt-LT" sz="1700" spc="-1" strike="noStrike">
                <a:solidFill>
                  <a:srgbClr val="000000"/>
                </a:solidFill>
                <a:latin typeface="Arial"/>
              </a:rPr>
              <a:t>didelės žalos kriterijus</a:t>
            </a:r>
            <a:r>
              <a:rPr b="0" lang="lt-LT" sz="1700" spc="-1" strike="noStrike">
                <a:solidFill>
                  <a:srgbClr val="000000"/>
                </a:solidFill>
                <a:latin typeface="Arial"/>
              </a:rPr>
              <a:t> (14 Protokolas): </a:t>
            </a:r>
            <a:r>
              <a:rPr b="0" lang="lt-LT" sz="1500" spc="-1" strike="noStrike">
                <a:solidFill>
                  <a:srgbClr val="000000"/>
                </a:solidFill>
                <a:latin typeface="Arial"/>
              </a:rPr>
              <a:t>jei pagarba žmogaus teisėms nereikalauja nagrinėti ir jei byla tinkamai nagrinėta nacionaliniu lygiu</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7000" y="0"/>
            <a:ext cx="91440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EŽTT struktūra</a:t>
            </a:r>
            <a:br>
              <a:rPr sz="2000"/>
            </a:br>
            <a:r>
              <a:rPr b="0" lang="lt-LT" sz="1600" spc="-1" strike="noStrike">
                <a:solidFill>
                  <a:srgbClr val="000000"/>
                </a:solidFill>
                <a:latin typeface="Arial"/>
              </a:rPr>
              <a:t>(EŽTK 25-31, 42-44 str.)</a:t>
            </a:r>
            <a:endParaRPr b="0" lang="en-US" sz="1600" spc="-1" strike="noStrike">
              <a:solidFill>
                <a:srgbClr val="000000"/>
              </a:solidFill>
              <a:latin typeface="Arial"/>
            </a:endParaRPr>
          </a:p>
        </p:txBody>
      </p:sp>
      <p:sp>
        <p:nvSpPr>
          <p:cNvPr id="143" name=""/>
          <p:cNvSpPr txBox="1"/>
          <p:nvPr/>
        </p:nvSpPr>
        <p:spPr>
          <a:xfrm>
            <a:off x="0" y="549360"/>
            <a:ext cx="9144000" cy="6308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lenariniai Teismo posėdžiai</a:t>
            </a:r>
            <a:r>
              <a:rPr b="0" lang="lt-LT" sz="1800" spc="-1" strike="noStrike">
                <a:solidFill>
                  <a:srgbClr val="000000"/>
                </a:solidFill>
                <a:latin typeface="Arial"/>
              </a:rPr>
              <a:t> (visi teisėjai) </a:t>
            </a:r>
            <a:r>
              <a:rPr b="0" lang="lt-LT" sz="1600" spc="-1" strike="noStrike">
                <a:solidFill>
                  <a:srgbClr val="000000"/>
                </a:solidFill>
                <a:latin typeface="Arial"/>
              </a:rPr>
              <a:t>– organizaciniai ir administraciniai klausimai</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800" spc="-1" strike="noStrike" u="sng">
                <a:solidFill>
                  <a:srgbClr val="000000"/>
                </a:solidFill>
                <a:uFillTx/>
                <a:latin typeface="Arial"/>
              </a:rPr>
              <a:t>Byloms nagrinėti:</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Vieno teisėjo Teismas </a:t>
            </a:r>
            <a:r>
              <a:rPr b="0" lang="lt-LT" sz="1600" spc="-1" strike="noStrike">
                <a:solidFill>
                  <a:srgbClr val="000000"/>
                </a:solidFill>
                <a:latin typeface="Arial"/>
              </a:rPr>
              <a:t>– individualių peticijų nepriimtinumo nutarimai ir išbraukimas iš bylų sąrašo, kai nereikia tolesnio tyrimo (galutinis sprend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mitetai</a:t>
            </a:r>
            <a:r>
              <a:rPr b="0" lang="lt-LT" sz="1800" spc="-1" strike="noStrike">
                <a:solidFill>
                  <a:srgbClr val="000000"/>
                </a:solidFill>
                <a:latin typeface="Arial"/>
              </a:rPr>
              <a:t> (3 teisėjai) </a:t>
            </a:r>
            <a:r>
              <a:rPr b="0" lang="lt-LT" sz="1600" spc="-1" strike="noStrike">
                <a:solidFill>
                  <a:srgbClr val="000000"/>
                </a:solidFill>
                <a:latin typeface="Arial"/>
              </a:rPr>
              <a:t>– vienbalsiai individualių peticijų bylose (galutiniai sprendimai):</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 nepriimtinumo nutarimai ir išbraukimas iš bylų sąrašo, kai nereikia tolesnio tyrim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2) priimtinumo nutarimas ir sprendimas iš esmės kartu, kai yra „pilotinių bylų“ (susiformavusi Teismo praktik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legijos </a:t>
            </a:r>
            <a:r>
              <a:rPr b="0" lang="lt-LT" sz="1800" spc="-1" strike="noStrike">
                <a:solidFill>
                  <a:srgbClr val="000000"/>
                </a:solidFill>
                <a:latin typeface="Arial"/>
              </a:rPr>
              <a:t>(7 teisėjai) </a:t>
            </a:r>
            <a:r>
              <a:rPr b="0" lang="lt-LT" sz="1600" spc="-1" strike="noStrike">
                <a:solidFill>
                  <a:srgbClr val="000000"/>
                </a:solidFill>
                <a:latin typeface="Arial"/>
              </a:rPr>
              <a:t>– balsų dauguma (galutiniai sprendimai dėl esmės, kai šalys deklaruoja neprašysiančios bylos perduoti arba neperduoda jos per 3 mėn. Didžiajai kolegijai arba Didžiosios kolegijos 5 teisėjų komisijai atmetus prašymą perduoti bylą Didžiajai kolegijai nesant sudėtingo klausim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 kai nėra Vieno teisėjo Teismo ar Komiteto sprendimo, individualių peticijų bylose sprendimas dėl priimtinumo ir esmės (dėl priimtinumo gali būti atskirai);</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2) tarpvalstybinėse bylose sprendimai dėl priimtinumo ir sprendimai dėl esmės (kartu tik išskirtiniais atvejai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3) kai byla susijusi su sudėtingu EŽTK aiškinimo klausimu arba sprendimas gali keisti Teismo praktiką, šalims neprieštaraujant gali perduoti jurisdikciją Didžiajai kolegijai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idžioji kolegija </a:t>
            </a:r>
            <a:r>
              <a:rPr b="0" lang="lt-LT" sz="1800" spc="-1" strike="noStrike">
                <a:solidFill>
                  <a:srgbClr val="000000"/>
                </a:solidFill>
                <a:latin typeface="Arial"/>
              </a:rPr>
              <a:t>(17 teisėjų) </a:t>
            </a:r>
            <a:r>
              <a:rPr b="0" lang="lt-LT" sz="1600" spc="-1" strike="noStrike">
                <a:solidFill>
                  <a:srgbClr val="000000"/>
                </a:solidFill>
                <a:latin typeface="Arial"/>
              </a:rPr>
              <a:t>– balsų dauguma (galutiniai sprendimai):</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 sprendimai tarpvalstybinėse ir individualių peticijų bylose, kai Kolegija perdavė jurisdikciją arba šalies prašymas perduoti bylą pripažįstamas pagrįstu;</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2) svarsto ET MK prašymus (priimtus po šalies informavimo 2/3 balsų) pripažinti, kad valstybė nevykdo galutinio Teismo sprendim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3) teikia konsultacines išvadas ET MK prašymu (priimtu balsų dauguma)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Pilietybės klausimų reglamentavimas tarptautinėje teisėje</a:t>
            </a:r>
            <a:br>
              <a:rPr sz="2000"/>
            </a:br>
            <a:r>
              <a:rPr b="0" lang="lt-LT" sz="1400" spc="-1" strike="noStrike">
                <a:solidFill>
                  <a:srgbClr val="000000"/>
                </a:solidFill>
                <a:latin typeface="Arial"/>
              </a:rPr>
              <a:t>(1997 m. Europos konvencija dėl pilietybės, 2006 m. JT TTK Diplomatinės gynybos straipsnių projektas)</a:t>
            </a:r>
            <a:endParaRPr b="0" lang="en-US" sz="1400" spc="-1" strike="noStrike">
              <a:solidFill>
                <a:srgbClr val="000000"/>
              </a:solidFill>
              <a:latin typeface="Arial"/>
            </a:endParaRPr>
          </a:p>
        </p:txBody>
      </p:sp>
      <p:sp>
        <p:nvSpPr>
          <p:cNvPr id="145" name=""/>
          <p:cNvSpPr txBox="1"/>
          <p:nvPr/>
        </p:nvSpPr>
        <p:spPr>
          <a:xfrm>
            <a:off x="0" y="691920"/>
            <a:ext cx="9144000" cy="6165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ilietybė</a:t>
            </a:r>
            <a:r>
              <a:rPr b="0" lang="lt-LT" sz="1800" spc="-1" strike="noStrike">
                <a:solidFill>
                  <a:srgbClr val="000000"/>
                </a:solidFill>
                <a:latin typeface="Arial"/>
              </a:rPr>
              <a:t> – asmens ir valstybės teisinis ryšys, nenurodantis jo etninės kilmės (EK 2 str. a p.):</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valstybės kompetencijos rezervuota sritis – nacionalinė teisė apibrėžia piliečius;</a:t>
            </a:r>
            <a:endParaRPr b="0" lang="en-US" sz="16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ilietybės įgijimo pagrindų sąrašas nėra išsamus, bet jie turi būti suderinami su tarptautine teise</a:t>
            </a:r>
            <a:r>
              <a:rPr b="0" lang="lt-LT" sz="1500" spc="-1" strike="noStrike">
                <a:solidFill>
                  <a:srgbClr val="000000"/>
                </a:solidFill>
                <a:latin typeface="Arial"/>
              </a:rPr>
              <a:t> (filiacija (</a:t>
            </a:r>
            <a:r>
              <a:rPr b="0" i="1" lang="lt-LT" sz="1500" spc="-1" strike="noStrike">
                <a:solidFill>
                  <a:srgbClr val="000000"/>
                </a:solidFill>
                <a:latin typeface="Arial"/>
              </a:rPr>
              <a:t>jus soli</a:t>
            </a:r>
            <a:r>
              <a:rPr b="0" lang="lt-LT" sz="1500" spc="-1" strike="noStrike">
                <a:solidFill>
                  <a:srgbClr val="000000"/>
                </a:solidFill>
                <a:latin typeface="Arial"/>
              </a:rPr>
              <a:t> ir </a:t>
            </a:r>
            <a:r>
              <a:rPr b="0" i="1" lang="lt-LT" sz="1500" spc="-1" strike="noStrike">
                <a:solidFill>
                  <a:srgbClr val="000000"/>
                </a:solidFill>
                <a:latin typeface="Arial"/>
              </a:rPr>
              <a:t>jus sanquinis</a:t>
            </a:r>
            <a:r>
              <a:rPr b="0" lang="lt-LT" sz="1500" spc="-1" strike="noStrike">
                <a:solidFill>
                  <a:srgbClr val="000000"/>
                </a:solidFill>
                <a:latin typeface="Arial"/>
              </a:rPr>
              <a:t>), natūralizacija, optacija, transferas, kt.);</a:t>
            </a:r>
            <a:endParaRPr b="0" lang="en-US" sz="15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pilietybės santykių pagrindu nebūtinai yra efektyvus ir tikras asmens bei valstybės ryšy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ilietybės įgijimo teisėtumo prezumpcija;</a:t>
            </a:r>
            <a:endParaRPr b="0" lang="en-US" sz="16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pilietybės netekimo pagrindų pasirinkimo laisvė ir jų suderinamumas su tarptautine teise </a:t>
            </a:r>
            <a:r>
              <a:rPr b="0" lang="lt-LT" sz="1500" spc="-1" strike="noStrike">
                <a:solidFill>
                  <a:srgbClr val="000000"/>
                </a:solidFill>
                <a:latin typeface="Arial"/>
              </a:rPr>
              <a:t>(EK 7 str.: savanoriškas kitos valstybės pilietybės įgijimas, pilietybės įgijimas apgaule, savanoriška tarnyba kitos valstybės ginkluotosiose pajėgose, pažeidžiantis gyvybinius valstybės interesus elgesys, tikro ryšio nebuvimas gyvenant užsienyje, įvaikinimas vaikui įgyjant kitą pilietybę)</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ilietybės reglamentavimo tarptautiniai teisiniai principai </a:t>
            </a:r>
            <a:r>
              <a:rPr b="0" lang="lt-LT" sz="1800" spc="-1" strike="noStrike">
                <a:solidFill>
                  <a:srgbClr val="000000"/>
                </a:solidFill>
                <a:latin typeface="Arial"/>
              </a:rPr>
              <a:t>(EK 4 str.):</a:t>
            </a:r>
            <a:endParaRPr b="0" lang="en-US" sz="18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kiekvienas asmuo turi teisę į pilietybę </a:t>
            </a:r>
            <a:r>
              <a:rPr b="0" lang="lt-LT" sz="1500" spc="-1" strike="noStrike">
                <a:solidFill>
                  <a:srgbClr val="000000"/>
                </a:solidFill>
                <a:latin typeface="Arial"/>
              </a:rPr>
              <a:t>(VŽTD 15 str., Vaiko teisių konvencijos 7 st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bepilietybės atvejų vengimas </a:t>
            </a:r>
            <a:r>
              <a:rPr b="0" lang="lt-LT" sz="1500" spc="-1" strike="noStrike">
                <a:solidFill>
                  <a:srgbClr val="000000"/>
                </a:solidFill>
                <a:latin typeface="Arial"/>
              </a:rPr>
              <a:t>(1961 m. Konvencija dėl bepilietybės atvejų mažinimo);</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draudimas savavališkai atimti pilietybę </a:t>
            </a:r>
            <a:r>
              <a:rPr b="0" lang="lt-LT" sz="1500" spc="-1" strike="noStrike">
                <a:solidFill>
                  <a:srgbClr val="000000"/>
                </a:solidFill>
                <a:latin typeface="Arial"/>
              </a:rPr>
              <a:t>(VŽTD 15 st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pilietybės automatiškai nekeičia santuokos sudarymas, jos nutraukimas ar sutuoktinio pilietybės pakeitimas </a:t>
            </a:r>
            <a:r>
              <a:rPr b="0" lang="lt-LT" sz="1500" spc="-1" strike="noStrike">
                <a:solidFill>
                  <a:srgbClr val="000000"/>
                </a:solidFill>
                <a:latin typeface="Arial"/>
              </a:rPr>
              <a:t>(1957 m. Konvencijos dėl ištekėjusių moterų pilietybės 1 st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nediskriminavimas </a:t>
            </a:r>
            <a:r>
              <a:rPr b="0" lang="lt-LT" sz="1500" spc="-1" strike="noStrike">
                <a:solidFill>
                  <a:srgbClr val="000000"/>
                </a:solidFill>
                <a:latin typeface="Arial"/>
              </a:rPr>
              <a:t>(EK 5 str.) – piliečių dėl lyties, religijos, rasės, tautybės, etninės kilmės ir pagal pilietybės įgijimo būdą (leidžiamos preferencijos dėl kilmės reglamentuojant pilietybės įgijimą)</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viguba pilietybė </a:t>
            </a:r>
            <a:r>
              <a:rPr b="0" lang="lt-LT" sz="1800" spc="-1" strike="noStrike">
                <a:solidFill>
                  <a:srgbClr val="000000"/>
                </a:solidFill>
                <a:latin typeface="Arial"/>
              </a:rPr>
              <a:t>– valstybių nuožiūros klausimas, realus tarptautinio gyvenimo faktas</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Minimaliai būtini dvigubos pilietybės atvejai (EK 14 str.) – nesusiję su asmens valia atvejai:</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vaikams</a:t>
            </a:r>
            <a:r>
              <a:rPr b="0" lang="lt-LT" sz="1600" spc="-1" strike="noStrike">
                <a:solidFill>
                  <a:srgbClr val="000000"/>
                </a:solidFill>
                <a:latin typeface="Arial"/>
              </a:rPr>
              <a:t> (iki pilnametystės), automatiškai įgijusiems kelias pilietybes gimimu;</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automatiškai (</a:t>
            </a:r>
            <a:r>
              <a:rPr b="0" i="1" lang="lt-LT" sz="1600" spc="-1" strike="noStrike">
                <a:solidFill>
                  <a:srgbClr val="000000"/>
                </a:solidFill>
                <a:latin typeface="Arial"/>
              </a:rPr>
              <a:t>ipso facto</a:t>
            </a:r>
            <a:r>
              <a:rPr b="0" lang="lt-LT" sz="1600" spc="-1" strike="noStrike">
                <a:solidFill>
                  <a:srgbClr val="000000"/>
                </a:solidFill>
                <a:latin typeface="Arial"/>
              </a:rPr>
              <a:t>) įgijus kitos šalies pilietybę dėl santuokos sudarym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4280"/>
            <a:ext cx="91440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ės humanitarinės teisės pagrindai</a:t>
            </a:r>
            <a:endParaRPr b="0" lang="en-US" sz="2400" spc="-1" strike="noStrike">
              <a:solidFill>
                <a:srgbClr val="000000"/>
              </a:solidFill>
              <a:latin typeface="Arial"/>
            </a:endParaRPr>
          </a:p>
        </p:txBody>
      </p:sp>
      <p:sp>
        <p:nvSpPr>
          <p:cNvPr id="147" name=""/>
          <p:cNvSpPr txBox="1"/>
          <p:nvPr/>
        </p:nvSpPr>
        <p:spPr>
          <a:xfrm>
            <a:off x="0" y="475920"/>
            <a:ext cx="9144000" cy="6381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HT</a:t>
            </a:r>
            <a:r>
              <a:rPr b="0" lang="lt-LT" sz="2000" spc="-1" strike="noStrike">
                <a:solidFill>
                  <a:srgbClr val="000000"/>
                </a:solidFill>
                <a:latin typeface="Arial"/>
              </a:rPr>
              <a:t> – tarptautinės teisės šaka, kurią sudaro </a:t>
            </a:r>
            <a:r>
              <a:rPr b="0" i="1" lang="lt-LT" sz="2000" spc="-1" strike="noStrike">
                <a:solidFill>
                  <a:srgbClr val="000000"/>
                </a:solidFill>
                <a:latin typeface="Arial"/>
              </a:rPr>
              <a:t>lex specialis</a:t>
            </a:r>
            <a:r>
              <a:rPr b="0" lang="lt-LT" sz="2000" spc="-1" strike="noStrike">
                <a:solidFill>
                  <a:srgbClr val="000000"/>
                </a:solidFill>
                <a:latin typeface="Arial"/>
              </a:rPr>
              <a:t> žmogaus teisių apsaugos normos, reglamentuojančios žmogaus apsaugą ginkluotų konfliktų metu ir atitinkamus kariavimo būdų ir priemonių ribojimu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HT pagrindiniai šaltiniai</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Hagos teisė </a:t>
            </a:r>
            <a:r>
              <a:rPr b="0" lang="lt-LT" sz="1800" spc="-1" strike="noStrike">
                <a:solidFill>
                  <a:srgbClr val="000000"/>
                </a:solidFill>
                <a:latin typeface="Arial"/>
              </a:rPr>
              <a:t>– karo papročiai ir taisyklės: 1907 m. Hagos konvencijos dėl karo įstatymų ir papročių (14 konvencijų: IV – dėl sausumos karo įstatymų ir papročių, V – dėl neutralių valstybių ir asmenų teisių ir pareigų sausumos karo metu, IX – dėl karinių jūrų pajėgų bombardavimų karo metu, XIII – dėl neutralių valstybių teisių ir pareigų jūrų karo metu)</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Ženevos teisė</a:t>
            </a:r>
            <a:r>
              <a:rPr b="0" lang="lt-LT" sz="1800" spc="-1" strike="noStrike">
                <a:solidFill>
                  <a:srgbClr val="000000"/>
                </a:solidFill>
                <a:latin typeface="Arial"/>
              </a:rPr>
              <a:t> – žmogaus teisių teisės </a:t>
            </a:r>
            <a:r>
              <a:rPr b="0" i="1" lang="lt-LT" sz="1800" spc="-1" strike="noStrike">
                <a:solidFill>
                  <a:srgbClr val="000000"/>
                </a:solidFill>
                <a:latin typeface="Arial"/>
              </a:rPr>
              <a:t>lex specialis</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49 m. 4 Ženevos konvencijos dėl karo aukų apsaugos: I – dėl sužeistųjų ir ligonių padėties veikiančiose armijose pagerinimo, II – dėl sužeistųjų, sergančiųjų ir skęstančiųjų ginkluotųjų pajėgų narių jūrose padėties pagerinimo, III – dėl elgesio su karo belaisviais, IV – dėl civilių apsaugos karo metu;</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77 m. 2 Ženevos konvencijų papildomi protokolai: I Protokolas – dėl tarptautinių ginkluotų konfliktų aukų apsaugos, II Protokolas – dėl netarptautinių ginkluotų konfliktų aukų apsaugo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2005 m. Ženevos konvencijų III Protokolas – dėl papildomos skiriamosios emblemos (Raudonojo Kristalo)</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954 m. UNESCO </a:t>
            </a:r>
            <a:r>
              <a:rPr b="1" lang="lt-LT" sz="1800" spc="-1" strike="noStrike">
                <a:solidFill>
                  <a:srgbClr val="000000"/>
                </a:solidFill>
                <a:latin typeface="Arial"/>
              </a:rPr>
              <a:t>Hagos konvencija dėl kultūros vertybių apsaugos ginkluoto konflikto metu</a:t>
            </a:r>
            <a:r>
              <a:rPr b="0" lang="lt-LT" sz="1800" spc="-1" strike="noStrike">
                <a:solidFill>
                  <a:srgbClr val="000000"/>
                </a:solidFill>
                <a:latin typeface="Arial"/>
              </a:rPr>
              <a:t> ir 2 jos protokolai (I – 1954 m. dėl kultūros vertybių išvežimo ir grąžinimo, II – 1999 m. dėl sustiprinto apsaugos reži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HT principai</a:t>
            </a:r>
            <a:endParaRPr b="0" lang="en-US" sz="2000" spc="-1" strike="noStrike">
              <a:solidFill>
                <a:srgbClr val="000000"/>
              </a:solidFill>
              <a:latin typeface="Arial"/>
            </a:endParaRPr>
          </a:p>
        </p:txBody>
      </p:sp>
      <p:sp>
        <p:nvSpPr>
          <p:cNvPr id="149" name=""/>
          <p:cNvSpPr txBox="1"/>
          <p:nvPr/>
        </p:nvSpPr>
        <p:spPr>
          <a:xfrm>
            <a:off x="0" y="333360"/>
            <a:ext cx="9144000" cy="6524640"/>
          </a:xfrm>
          <a:prstGeom prst="rect">
            <a:avLst/>
          </a:prstGeom>
          <a:noFill/>
          <a:ln w="0">
            <a:noFill/>
          </a:ln>
        </p:spPr>
        <p:txBody>
          <a:bodyPr anchor="t">
            <a:normAutofit fontScale="99000"/>
          </a:bodyPr>
          <a:p>
            <a:pPr marL="339480" indent="-339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Martenso išlyga</a:t>
            </a:r>
            <a:r>
              <a:rPr b="0" lang="lt-LT" sz="1500" spc="-1" strike="noStrike">
                <a:solidFill>
                  <a:srgbClr val="000000"/>
                </a:solidFill>
                <a:latin typeface="Arial"/>
              </a:rPr>
              <a:t> – konvencinėje teisėje nenumatytais atvejais civiliai ir kombatantai saugomi remiantis THT principais, paprotinėmis normomis, humanizmo principais ir visuomenės sąžine</a:t>
            </a:r>
            <a:endParaRPr b="0" lang="en-US" sz="1500" spc="-1" strike="noStrike">
              <a:solidFill>
                <a:srgbClr val="000000"/>
              </a:solidFill>
              <a:latin typeface="Arial"/>
            </a:endParaRPr>
          </a:p>
          <a:p>
            <a:pPr marL="339480" indent="-339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Neutralumas</a:t>
            </a:r>
            <a:r>
              <a:rPr b="0" lang="lt-LT" sz="1500" spc="-1" strike="noStrike">
                <a:solidFill>
                  <a:srgbClr val="000000"/>
                </a:solidFill>
                <a:latin typeface="Arial"/>
              </a:rPr>
              <a:t> – THT taikymas neįtakoja konflikto šalių statuso</a:t>
            </a:r>
            <a:endParaRPr b="0" lang="en-US" sz="1500" spc="-1" strike="noStrike">
              <a:solidFill>
                <a:srgbClr val="000000"/>
              </a:solidFill>
              <a:latin typeface="Arial"/>
            </a:endParaRPr>
          </a:p>
          <a:p>
            <a:pPr marL="339480" indent="-339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Pagrindinis principas </a:t>
            </a:r>
            <a:r>
              <a:rPr b="0" lang="lt-LT" sz="1500" spc="-1" strike="noStrike">
                <a:solidFill>
                  <a:srgbClr val="000000"/>
                </a:solidFill>
                <a:latin typeface="Arial"/>
              </a:rPr>
              <a:t>– </a:t>
            </a:r>
            <a:r>
              <a:rPr b="0" lang="lt-LT" sz="1500" spc="-1" strike="noStrike" u="sng">
                <a:solidFill>
                  <a:srgbClr val="000000"/>
                </a:solidFill>
                <a:uFillTx/>
                <a:latin typeface="Arial"/>
              </a:rPr>
              <a:t>humanizmo</a:t>
            </a:r>
            <a:r>
              <a:rPr b="0" lang="lt-LT" sz="1500" spc="-1" strike="noStrike">
                <a:solidFill>
                  <a:srgbClr val="000000"/>
                </a:solidFill>
                <a:latin typeface="Arial"/>
              </a:rPr>
              <a:t> principas:</a:t>
            </a:r>
            <a:endParaRPr b="0" lang="en-US" sz="15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karinė būtinybė derinama su pagarba žmogui;</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negalima viršijanti karinę būtinybę žala;</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nedalyvaujančių konflikte asmenų teisė į pagarbą, gynybą ir humanišką elgesį;</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šalių teisė rinktis kariavimo būdus ir priemones nėra neribota</a:t>
            </a:r>
            <a:endParaRPr b="0" lang="en-US" sz="1400" spc="-1" strike="noStrike">
              <a:solidFill>
                <a:srgbClr val="000000"/>
              </a:solidFill>
              <a:latin typeface="Arial"/>
            </a:endParaRPr>
          </a:p>
          <a:p>
            <a:pPr marL="339480" indent="-339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u="sng">
                <a:solidFill>
                  <a:srgbClr val="000000"/>
                </a:solidFill>
                <a:uFillTx/>
                <a:latin typeface="Arial"/>
              </a:rPr>
              <a:t>Bendrieji principai</a:t>
            </a:r>
            <a:r>
              <a:rPr b="0" lang="lt-LT" sz="1500" spc="-1" strike="noStrike">
                <a:solidFill>
                  <a:srgbClr val="000000"/>
                </a:solidFill>
                <a:latin typeface="Arial"/>
              </a:rPr>
              <a:t>:</a:t>
            </a:r>
            <a:endParaRPr b="0" lang="en-US" sz="15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1" lang="lt-LT" sz="1400" spc="-1" strike="noStrike">
                <a:solidFill>
                  <a:srgbClr val="000000"/>
                </a:solidFill>
                <a:latin typeface="Arial"/>
              </a:rPr>
              <a:t>Neliečiamybės principas</a:t>
            </a:r>
            <a:r>
              <a:rPr b="0" lang="lt-LT" sz="1400" spc="-1" strike="noStrike">
                <a:solidFill>
                  <a:srgbClr val="000000"/>
                </a:solidFill>
                <a:latin typeface="Arial"/>
              </a:rPr>
              <a:t>: neliečiami kritusieji mūšio lauke, saugoma pasidavusiųjų gyvybė, kankinimų ir nežmoniško elgesio draudimas, žmogaus teisių, garbės, šeimyninio gyvenimo ir įsitikinimų gerbimas, kt.</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1" lang="lt-LT" sz="1400" spc="-1" strike="noStrike">
                <a:solidFill>
                  <a:srgbClr val="000000"/>
                </a:solidFill>
                <a:latin typeface="Arial"/>
              </a:rPr>
              <a:t>Nediskriminacijos principas</a:t>
            </a:r>
            <a:r>
              <a:rPr b="0" lang="lt-LT" sz="1400" spc="-1" strike="noStrike">
                <a:solidFill>
                  <a:srgbClr val="000000"/>
                </a:solidFill>
                <a:latin typeface="Arial"/>
              </a:rPr>
              <a:t>: elgesiui su visais žmonėmis, galima pozityvi diskriminacija tam tikrų kategorijų žmonių apsaugos labui</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a:t>
            </a:r>
            <a:r>
              <a:rPr b="1" lang="lt-LT" sz="1400" spc="-1" strike="noStrike">
                <a:solidFill>
                  <a:srgbClr val="000000"/>
                </a:solidFill>
                <a:latin typeface="Arial"/>
              </a:rPr>
              <a:t>Saugumo principas</a:t>
            </a:r>
            <a:r>
              <a:rPr b="0" lang="lt-LT" sz="1400" spc="-1" strike="noStrike">
                <a:solidFill>
                  <a:srgbClr val="000000"/>
                </a:solidFill>
                <a:latin typeface="Arial"/>
              </a:rPr>
              <a:t>: asmeninė atsakomybė, represalijų ir kolektyvinių bausmių draudimas, teisinio subjektiškumo pripažinimas ir draudimas atsisakyti savo teisių</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Karo aukų apsaugos specialieji principai</a:t>
            </a:r>
            <a:r>
              <a:rPr b="0" lang="lt-LT"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Neutralumo principas – humanitarinės pagalbos nešališkumas (medicinos ir religinio personalo speciali apsauga);</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Normalumo principas – ginamų asmenų teisė į žmonišką gyvenimą (karo belaisvių apsaugos normos);</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Gynybos principas – valstybė atsako už jos jurisdikcijai priklausančius ginamus asmenis (karo belaisvius ir civilius)</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u="sng">
                <a:solidFill>
                  <a:srgbClr val="000000"/>
                </a:solidFill>
                <a:uFillTx/>
                <a:latin typeface="Arial"/>
              </a:rPr>
              <a:t>Karo teisės specialieji principai</a:t>
            </a:r>
            <a:r>
              <a:rPr b="0" lang="lt-LT"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Ribojimų </a:t>
            </a:r>
            <a:r>
              <a:rPr b="0" i="1" lang="lt-LT" sz="1400" spc="-1" strike="noStrike">
                <a:solidFill>
                  <a:srgbClr val="000000"/>
                </a:solidFill>
                <a:latin typeface="Arial"/>
              </a:rPr>
              <a:t>rationae personae</a:t>
            </a:r>
            <a:r>
              <a:rPr b="0" lang="lt-LT" sz="1400" spc="-1" strike="noStrike">
                <a:solidFill>
                  <a:srgbClr val="000000"/>
                </a:solidFill>
                <a:latin typeface="Arial"/>
              </a:rPr>
              <a:t> pagrindu principas – bendra civilių apsauga ir pozityvi diskriminacija (civilių ir kombatantų atskyrimas, represalijų prieš civilius draudimas, kt.);</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Ribojimų </a:t>
            </a:r>
            <a:r>
              <a:rPr b="0" i="1" lang="lt-LT" sz="1400" spc="-1" strike="noStrike">
                <a:solidFill>
                  <a:srgbClr val="000000"/>
                </a:solidFill>
                <a:latin typeface="Arial"/>
              </a:rPr>
              <a:t>ratione loci</a:t>
            </a:r>
            <a:r>
              <a:rPr b="0" lang="lt-LT" sz="1400" spc="-1" strike="noStrike">
                <a:solidFill>
                  <a:srgbClr val="000000"/>
                </a:solidFill>
                <a:latin typeface="Arial"/>
              </a:rPr>
              <a:t> pagrindu principas – puolimas tik prieš karinius objektus (civilinių objektų, neginamų vietovių, kultūros vertybių, pavojingų gyventojams objektų puolimo, plėšimų draudimas);</a:t>
            </a:r>
            <a:endParaRPr b="0" lang="en-US" sz="1400" spc="-1" strike="noStrike">
              <a:solidFill>
                <a:srgbClr val="000000"/>
              </a:solidFill>
              <a:latin typeface="Arial"/>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Ribojimų </a:t>
            </a:r>
            <a:r>
              <a:rPr b="0" i="1" lang="lt-LT" sz="1400" spc="-1" strike="noStrike">
                <a:solidFill>
                  <a:srgbClr val="000000"/>
                </a:solidFill>
                <a:latin typeface="Arial"/>
              </a:rPr>
              <a:t>ratione conditionis </a:t>
            </a:r>
            <a:r>
              <a:rPr b="0" lang="lt-LT" sz="1400" spc="-1" strike="noStrike">
                <a:solidFill>
                  <a:srgbClr val="000000"/>
                </a:solidFill>
                <a:latin typeface="Arial"/>
              </a:rPr>
              <a:t>pagrindu principas – kariavimų būdų ir priemonių, lemiančių neproporcingą žalą, draudimas (nediskriminacinio pobūdžio ar neproporcingą žalą sukeliančių puolimų draudimas, aplinkos apsaugos paisymas, bado ir klastos priemonių draud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910908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u="sng">
                <a:solidFill>
                  <a:srgbClr val="000000"/>
                </a:solidFill>
                <a:uFillTx/>
                <a:latin typeface="Arial"/>
              </a:rPr>
              <a:t>Valstybės neutralitetas</a:t>
            </a:r>
            <a:endParaRPr b="0" lang="en-US" sz="4400" spc="-1" strike="noStrike">
              <a:solidFill>
                <a:srgbClr val="000000"/>
              </a:solidFill>
              <a:latin typeface="Arial"/>
            </a:endParaRPr>
          </a:p>
        </p:txBody>
      </p:sp>
      <p:sp>
        <p:nvSpPr>
          <p:cNvPr id="151" name=""/>
          <p:cNvSpPr txBox="1"/>
          <p:nvPr/>
        </p:nvSpPr>
        <p:spPr>
          <a:xfrm>
            <a:off x="0" y="620640"/>
            <a:ext cx="9144000" cy="623736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Neutralitetas</a:t>
            </a:r>
            <a:r>
              <a:rPr b="0" lang="lt-LT" sz="2700" spc="-1" strike="noStrike">
                <a:solidFill>
                  <a:srgbClr val="000000"/>
                </a:solidFill>
                <a:latin typeface="Arial"/>
              </a:rPr>
              <a:t> – valstybės įsipareigojimas nedalyvauti (tarptautiniame) ginkluotame konflikte (konfliktuose) ir neremti jokios jo (jų) šalies</a:t>
            </a:r>
            <a:endParaRPr b="0" lang="en-US" sz="27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Neutraliteto rūšys</a:t>
            </a:r>
            <a:r>
              <a:rPr b="0" lang="lt-LT" sz="2700" spc="-1" strike="noStrike">
                <a:solidFill>
                  <a:srgbClr val="000000"/>
                </a:solidFill>
                <a:latin typeface="Arial"/>
              </a:rPr>
              <a:t>:</a:t>
            </a:r>
            <a:endParaRPr b="0" lang="en-US" sz="27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700" spc="-1" strike="noStrike">
                <a:solidFill>
                  <a:srgbClr val="000000"/>
                </a:solidFill>
                <a:latin typeface="Arial"/>
              </a:rPr>
              <a:t>Ad hoc</a:t>
            </a:r>
            <a:r>
              <a:rPr b="1" lang="lt-LT" sz="2700" spc="-1" strike="noStrike">
                <a:solidFill>
                  <a:srgbClr val="000000"/>
                </a:solidFill>
                <a:latin typeface="Arial"/>
              </a:rPr>
              <a:t> neutralitetas</a:t>
            </a:r>
            <a:r>
              <a:rPr b="0" lang="lt-LT" sz="2700" spc="-1" strike="noStrike">
                <a:solidFill>
                  <a:srgbClr val="000000"/>
                </a:solidFill>
                <a:latin typeface="Arial"/>
              </a:rPr>
              <a:t> – įsipareigojimas konkretaus ginkluoto konflikto atžvilgiu (1939 09 01 – 10 10 LR Antrojo pasaulinio karo pradžioje);</a:t>
            </a:r>
            <a:endParaRPr b="0" lang="en-US" sz="27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Nuolatinis neutralitetas</a:t>
            </a:r>
            <a:r>
              <a:rPr b="0" lang="lt-LT" sz="2700" spc="-1" strike="noStrike">
                <a:solidFill>
                  <a:srgbClr val="000000"/>
                </a:solidFill>
                <a:latin typeface="Arial"/>
              </a:rPr>
              <a:t> – įsipareigojimas visų ginkluotų konfliktų atžvilgiu, įskaitant nedalyvavimą politinėse saugumo ir karinėse gynybos organizacijose, kurių narės susaistytos tarpusavio pagalbos įsipareigojimais: pripažintas neutralitetas (1815 m. Šveicarija), sutartinis neutralitetas (1955 m. Austrija), deklaruotas neutralitetas (Malta, Turkmėnistanas, Moldova (?), kt.)</a:t>
            </a:r>
            <a:endParaRPr b="0" lang="en-US" sz="27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Neutralių ir kitų valstybių teisės ir pareigos</a:t>
            </a:r>
            <a:r>
              <a:rPr b="0" lang="lt-LT" sz="2700" spc="-1" strike="noStrike">
                <a:solidFill>
                  <a:srgbClr val="000000"/>
                </a:solidFill>
                <a:latin typeface="Arial"/>
              </a:rPr>
              <a:t> (1907 m. V ir XIII Hagos konvencijos): užkirsti kelią, uždrausti, susilaikyti nuo veiksmų, aktyviai veikt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Ginkluotų konfliktų rūšys</a:t>
            </a:r>
            <a:br>
              <a:rPr sz="2400"/>
            </a:br>
            <a:r>
              <a:rPr b="0" lang="lt-LT" sz="1800" spc="-1" strike="noStrike">
                <a:solidFill>
                  <a:srgbClr val="000000"/>
                </a:solidFill>
                <a:latin typeface="Arial"/>
              </a:rPr>
              <a:t>(1949 m. Ženevos konvencijų 2 str., 1977 m. I Protokolo 1 str. 4 d., II Protokolo 1 str.)</a:t>
            </a:r>
            <a:endParaRPr b="0" lang="en-US" sz="1800" spc="-1" strike="noStrike">
              <a:solidFill>
                <a:srgbClr val="000000"/>
              </a:solidFill>
              <a:latin typeface="Arial"/>
            </a:endParaRPr>
          </a:p>
        </p:txBody>
      </p:sp>
      <p:sp>
        <p:nvSpPr>
          <p:cNvPr id="153" name=""/>
          <p:cNvSpPr txBox="1"/>
          <p:nvPr/>
        </p:nvSpPr>
        <p:spPr>
          <a:xfrm>
            <a:off x="0" y="691920"/>
            <a:ext cx="9144000" cy="6165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Tarptautiniai ginkluoti konfliktai </a:t>
            </a:r>
            <a:r>
              <a:rPr b="0" lang="lt-LT" sz="2700" spc="-1" strike="noStrike">
                <a:solidFill>
                  <a:srgbClr val="000000"/>
                </a:solidFill>
                <a:latin typeface="Arial"/>
              </a:rPr>
              <a:t>– ginkluoti konfliktai tarp:</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Arial"/>
              </a:rPr>
              <a:t>	</a:t>
            </a:r>
            <a:r>
              <a:rPr b="0" lang="lt-LT" sz="2700" spc="-1" strike="noStrike">
                <a:solidFill>
                  <a:srgbClr val="000000"/>
                </a:solidFill>
                <a:latin typeface="Arial"/>
              </a:rPr>
              <a:t>- valstybių (Ženevos konvencijo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Arial"/>
              </a:rPr>
              <a:t>	</a:t>
            </a:r>
            <a:r>
              <a:rPr b="0" lang="lt-LT" sz="2700" spc="-1" strike="noStrike">
                <a:solidFill>
                  <a:srgbClr val="000000"/>
                </a:solidFill>
                <a:latin typeface="Arial"/>
              </a:rPr>
              <a:t>- valstybių ir kovojančių dėl nepriklausomybės tautų (I Protokola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700" spc="-1" strike="noStrike">
                <a:solidFill>
                  <a:srgbClr val="000000"/>
                </a:solidFill>
                <a:latin typeface="Arial"/>
              </a:rPr>
              <a:t>Netarptautiniai ginkluoti konfliktai </a:t>
            </a:r>
            <a:r>
              <a:rPr b="0" lang="lt-LT" sz="2700" spc="-1" strike="noStrike">
                <a:solidFill>
                  <a:srgbClr val="000000"/>
                </a:solidFill>
                <a:latin typeface="Arial"/>
              </a:rPr>
              <a:t>(II Protokolas)</a:t>
            </a:r>
            <a:r>
              <a:rPr b="1" lang="lt-LT" sz="2700" spc="-1" strike="noStrike">
                <a:solidFill>
                  <a:srgbClr val="000000"/>
                </a:solidFill>
                <a:latin typeface="Arial"/>
              </a:rPr>
              <a:t> </a:t>
            </a:r>
            <a:r>
              <a:rPr b="0" lang="lt-LT" sz="2700" spc="-1" strike="noStrike">
                <a:solidFill>
                  <a:srgbClr val="000000"/>
                </a:solidFill>
                <a:latin typeface="Arial"/>
              </a:rPr>
              <a:t>– valstybės teritorijoje tarp jos (vyriausybinių) ginkluotųjų pajėgų ir nevyriausybinių (opozicinių) ginkluotų pajėgų ar grupių, atitinkančių šias sąlygas: atsakingos vadovybės buvimas, valstybės teritorijos dalies kontrolė, nenutrūkstamų ir suderintų karo veiksmų vykdymas, II Protokolo taikyma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000000"/>
                </a:solidFill>
                <a:latin typeface="Arial"/>
              </a:rPr>
              <a:t>	</a:t>
            </a:r>
            <a:r>
              <a:rPr b="0" lang="lt-LT" sz="2700" spc="-1" strike="noStrike">
                <a:solidFill>
                  <a:srgbClr val="000000"/>
                </a:solidFill>
                <a:latin typeface="Arial"/>
              </a:rPr>
              <a:t>- Nepriskiriami netarptautiniams ginkluotiems konfliktams stichiniai ir nepakankamo intensyvumo vidaus neramumai ir įtampos: riaušės, paskiri ir stichiniai prievartos veiksmai, kiti panašaus pobūdžio atveja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Kombatantai</a:t>
            </a:r>
            <a:br>
              <a:rPr sz="2000"/>
            </a:br>
            <a:r>
              <a:rPr b="0" lang="lt-LT" sz="1800" spc="-1" strike="noStrike">
                <a:solidFill>
                  <a:srgbClr val="000000"/>
                </a:solidFill>
                <a:latin typeface="Arial"/>
              </a:rPr>
              <a:t>(III Ženevos konvencijos 4 str., I Protokolo 43-47 str.)</a:t>
            </a:r>
            <a:endParaRPr b="0" lang="en-US" sz="1800" spc="-1" strike="noStrike">
              <a:solidFill>
                <a:srgbClr val="000000"/>
              </a:solidFill>
              <a:latin typeface="Arial"/>
            </a:endParaRPr>
          </a:p>
        </p:txBody>
      </p:sp>
      <p:sp>
        <p:nvSpPr>
          <p:cNvPr id="155" name=""/>
          <p:cNvSpPr txBox="1"/>
          <p:nvPr/>
        </p:nvSpPr>
        <p:spPr>
          <a:xfrm>
            <a:off x="0" y="691920"/>
            <a:ext cx="9144000" cy="6165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mbatantai</a:t>
            </a:r>
            <a:r>
              <a:rPr b="0" lang="lt-LT" sz="1800" spc="-1" strike="noStrike">
                <a:solidFill>
                  <a:srgbClr val="000000"/>
                </a:solidFill>
                <a:latin typeface="Arial"/>
              </a:rPr>
              <a:t> – besiskiriantys nuo civilių teisėti karo (</a:t>
            </a:r>
            <a:r>
              <a:rPr b="0" lang="lt-LT" sz="1800" spc="-1" strike="noStrike" u="sng">
                <a:solidFill>
                  <a:srgbClr val="000000"/>
                </a:solidFill>
                <a:uFillTx/>
                <a:latin typeface="Arial"/>
              </a:rPr>
              <a:t>tarptautinio ginkluoto konflikto</a:t>
            </a:r>
            <a:r>
              <a:rPr b="0" lang="lt-LT" sz="1800" spc="-1" strike="noStrike">
                <a:solidFill>
                  <a:srgbClr val="000000"/>
                </a:solidFill>
                <a:latin typeface="Arial"/>
              </a:rPr>
              <a:t>) veiksmų dalyviai, turintys teisę į karo belaisvio statusą</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Kombatantas – teisėtas puolimo objek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Civilio statuso prezumpcija (I Protokolo 50 str.) – kilus abejonei</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ombatantų kategorijos ir požymiai</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reguliariosios pajėgos</a:t>
            </a:r>
            <a:r>
              <a:rPr b="0" lang="lt-LT" sz="1800" spc="-1" strike="noStrike">
                <a:solidFill>
                  <a:srgbClr val="000000"/>
                </a:solidFill>
                <a:latin typeface="Arial"/>
              </a:rPr>
              <a:t> (įskaitant savigynos ir savanorių pajėgas): atsakingas vadas ir vidaus drausmė, užtikrinanti THT laikymąsi;</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800" spc="-1" strike="noStrike">
                <a:solidFill>
                  <a:srgbClr val="000000"/>
                </a:solidFill>
                <a:latin typeface="Arial"/>
              </a:rPr>
              <a:t>nereguliariosios pajėgos</a:t>
            </a:r>
            <a:r>
              <a:rPr b="0" lang="lt-LT" sz="1800" spc="-1" strike="noStrike">
                <a:solidFill>
                  <a:srgbClr val="000000"/>
                </a:solidFill>
                <a:latin typeface="Arial"/>
              </a:rPr>
              <a:t> – okupuotos teritorijos savigynos ir savanorių būriai, partizanai, neokupuotos teritorijos gyventojai, stichiškai besigriebiantys ginklo artėjant frontui:</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iki I Protokolo – 4 požymiai: atsakingas vadas, skiriamieji ženklai, atviras ginklo nešiojimas, karo įstatymų ir papročių laikyma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pagal I Protokolą (44 str. 3 d.) – 1 požymis: išsiskyrimas iš civilių atvirai nešiojant ginklą (operacijos metu ar išsidėstant prieš puolimą, kad matytų priešinink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rilygintas kombatantams personalas</a:t>
            </a:r>
            <a:r>
              <a:rPr b="0" lang="lt-LT" sz="1800" spc="-1" strike="noStrike">
                <a:solidFill>
                  <a:srgbClr val="000000"/>
                </a:solidFill>
                <a:latin typeface="Arial"/>
              </a:rPr>
              <a:t> – ne kombatantai, bet turi teisę į karo belaisvio statusą: medicinos ir religinis personalas, lydintys ginkluotąsias pajėgas žurnalistai, civilių laivų ir orlaivių įgulų nari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Ne kombatantai</a:t>
            </a:r>
            <a:r>
              <a:rPr b="0" lang="lt-LT" sz="1800" spc="-1" strike="noStrike">
                <a:solidFill>
                  <a:srgbClr val="000000"/>
                </a:solidFill>
                <a:latin typeface="Arial"/>
              </a:rPr>
              <a:t> – neteisėti karo veiksmų dalyviai, kuriuos galima bausti už dalyvavimą ginkluotame konflikte:</a:t>
            </a:r>
            <a:endParaRPr b="0" lang="en-US" sz="18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	</a:t>
            </a:r>
            <a:r>
              <a:rPr b="0" lang="lt-LT" sz="1600" spc="-1" strike="noStrike">
                <a:solidFill>
                  <a:srgbClr val="000000"/>
                </a:solidFill>
                <a:latin typeface="Arial"/>
              </a:rPr>
              <a:t>- šnipai (I Protokolo 46 str.) – apgaule ir klasta renkantis informaciją apie ginkluoto konflikto šalį asmu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samdiniai (I Protokolo 47 str.) – specialiai užverbuotas, karo veiksmų dalyvis, užsienietis, ne konflikto šalies ginkluotųjų pajėgų narys, nesiųstas kitos valstybės oficialiai užduočiai vykdyti, asmeninės naudos interesas – pažadėtas atlyginimas, gerokai viršijantis to paties rango kombatantams, priklausantiems tai pačiai konflikto šali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arptautinio Baudžiamojo Teismo jurisdikcija</a:t>
            </a:r>
            <a:br>
              <a:rPr sz="2000"/>
            </a:br>
            <a:r>
              <a:rPr b="0" lang="lt-LT" sz="1600" spc="-1" strike="noStrike">
                <a:solidFill>
                  <a:srgbClr val="000000"/>
                </a:solidFill>
                <a:latin typeface="Arial"/>
              </a:rPr>
              <a:t>(TBT Romos statuto 5-8 str.)</a:t>
            </a:r>
            <a:endParaRPr b="0" lang="en-US" sz="1600" spc="-1" strike="noStrike">
              <a:solidFill>
                <a:srgbClr val="000000"/>
              </a:solidFill>
              <a:latin typeface="Arial"/>
            </a:endParaRPr>
          </a:p>
        </p:txBody>
      </p:sp>
      <p:sp>
        <p:nvSpPr>
          <p:cNvPr id="157" name=""/>
          <p:cNvSpPr txBox="1"/>
          <p:nvPr/>
        </p:nvSpPr>
        <p:spPr>
          <a:xfrm>
            <a:off x="0" y="549360"/>
            <a:ext cx="9144000" cy="630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Arial"/>
              </a:rPr>
              <a:t>Ratione materiae</a:t>
            </a:r>
            <a:r>
              <a:rPr b="0" lang="lt-LT" sz="2000" spc="-1" strike="noStrike">
                <a:solidFill>
                  <a:srgbClr val="000000"/>
                </a:solidFill>
                <a:latin typeface="Arial"/>
              </a:rPr>
              <a:t> – tarptautiniai nusikaltimai:</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1) </a:t>
            </a:r>
            <a:r>
              <a:rPr b="1" lang="lt-LT" sz="1800" spc="-1" strike="noStrike">
                <a:solidFill>
                  <a:srgbClr val="000000"/>
                </a:solidFill>
                <a:latin typeface="Arial"/>
              </a:rPr>
              <a:t>genocido nusikaltimas</a:t>
            </a:r>
            <a:r>
              <a:rPr b="0" lang="lt-LT" sz="20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siekis sunaikinti visą ar dalį nacionalinės, etninės, rasinės ar religinės grupės</a:t>
            </a:r>
            <a:r>
              <a:rPr b="0" lang="lt-LT" sz="1600" spc="-1" strike="noStrike">
                <a:solidFill>
                  <a:srgbClr val="000000"/>
                </a:solidFill>
                <a:latin typeface="Arial"/>
              </a:rPr>
              <a:t> (grupei priklausančių žmonių žudymas, žalojimas, tyčinis sąlygų žūti sudarymas, gimstamumo ribojimas, vaikų perdavimas), gali būti atliktas ir ginkluoto konflikto, ir taikos metu;</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2) </a:t>
            </a:r>
            <a:r>
              <a:rPr b="1" lang="lt-LT" sz="1800" spc="-1" strike="noStrike">
                <a:solidFill>
                  <a:srgbClr val="000000"/>
                </a:solidFill>
                <a:latin typeface="Arial"/>
              </a:rPr>
              <a:t>nusikaltimai žmoniškumui</a:t>
            </a:r>
            <a:r>
              <a:rPr b="0" lang="lt-LT" sz="2000" spc="-1" strike="noStrike">
                <a:solidFill>
                  <a:srgbClr val="000000"/>
                </a:solidFill>
                <a:latin typeface="Arial"/>
              </a:rPr>
              <a:t> </a:t>
            </a:r>
            <a:r>
              <a:rPr b="0" lang="lt-LT" sz="1600" spc="-1" strike="noStrike">
                <a:solidFill>
                  <a:srgbClr val="000000"/>
                </a:solidFill>
                <a:latin typeface="Arial"/>
              </a:rPr>
              <a:t>– tie patys ir daugiau veiksmų (pvz., pavergimas, persekiojimas, deportavimas, prievartinis dingimas), kai tai yra tyčiniai </a:t>
            </a:r>
            <a:r>
              <a:rPr b="0" lang="lt-LT" sz="1600" spc="-1" strike="noStrike" u="sng">
                <a:solidFill>
                  <a:srgbClr val="000000"/>
                </a:solidFill>
                <a:uFillTx/>
                <a:latin typeface="Arial"/>
              </a:rPr>
              <a:t>didelio masto</a:t>
            </a:r>
            <a:r>
              <a:rPr b="0" lang="lt-LT" sz="1600" spc="-1" strike="noStrike">
                <a:solidFill>
                  <a:srgbClr val="000000"/>
                </a:solidFill>
                <a:latin typeface="Arial"/>
              </a:rPr>
              <a:t> ar </a:t>
            </a:r>
            <a:r>
              <a:rPr b="0" lang="lt-LT" sz="1600" spc="-1" strike="noStrike" u="sng">
                <a:solidFill>
                  <a:srgbClr val="000000"/>
                </a:solidFill>
                <a:uFillTx/>
                <a:latin typeface="Arial"/>
              </a:rPr>
              <a:t>sistemingi civilių užpuolimai</a:t>
            </a:r>
            <a:r>
              <a:rPr b="0" lang="lt-LT" sz="1600" spc="-1" strike="noStrike">
                <a:solidFill>
                  <a:srgbClr val="000000"/>
                </a:solidFill>
                <a:latin typeface="Arial"/>
              </a:rPr>
              <a:t> (tokios valstybės ar organizacijos politikos užpuldinėti civilius vykdymas), </a:t>
            </a:r>
            <a:r>
              <a:rPr b="0" lang="lt-LT" sz="1600" spc="-1" strike="noStrike" u="sng">
                <a:solidFill>
                  <a:srgbClr val="000000"/>
                </a:solidFill>
                <a:uFillTx/>
                <a:latin typeface="Arial"/>
              </a:rPr>
              <a:t>nesant siekio sunaikinti tam tikrą žmonių grupę ar jos dalį</a:t>
            </a:r>
            <a:r>
              <a:rPr b="0" lang="lt-LT" sz="1600" spc="-1" strike="noStrike">
                <a:solidFill>
                  <a:srgbClr val="000000"/>
                </a:solidFill>
                <a:latin typeface="Arial"/>
              </a:rPr>
              <a:t>, gali būti vykdomi ir ginkluoto konflikto, ir taikos metu;</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3) </a:t>
            </a:r>
            <a:r>
              <a:rPr b="1" lang="lt-LT" sz="1800" spc="-1" strike="noStrike">
                <a:solidFill>
                  <a:srgbClr val="000000"/>
                </a:solidFill>
                <a:latin typeface="Arial"/>
              </a:rPr>
              <a:t>karo nusikaltimai</a:t>
            </a:r>
            <a:r>
              <a:rPr b="0" lang="lt-LT" sz="2000" spc="-1" strike="noStrike">
                <a:solidFill>
                  <a:srgbClr val="000000"/>
                </a:solidFill>
                <a:latin typeface="Arial"/>
              </a:rPr>
              <a:t> </a:t>
            </a:r>
            <a:r>
              <a:rPr b="0" lang="lt-LT" sz="1600" spc="-1" strike="noStrike">
                <a:solidFill>
                  <a:srgbClr val="000000"/>
                </a:solidFill>
                <a:latin typeface="Arial"/>
              </a:rPr>
              <a:t>– sunkūs karo įstatymų ir papročių pažeidimai (Ženevos konvencijų, jų protokolų, kitų THT aktų ir paprotinių normų), </a:t>
            </a:r>
            <a:r>
              <a:rPr b="0" lang="lt-LT" sz="1600" spc="-1" strike="noStrike" u="sng">
                <a:solidFill>
                  <a:srgbClr val="000000"/>
                </a:solidFill>
                <a:uFillTx/>
                <a:latin typeface="Arial"/>
              </a:rPr>
              <a:t>gali būti pavieniai aktai</a:t>
            </a:r>
            <a:r>
              <a:rPr b="0" lang="lt-LT" sz="1600" spc="-1" strike="noStrike">
                <a:solidFill>
                  <a:srgbClr val="000000"/>
                </a:solidFill>
                <a:latin typeface="Arial"/>
              </a:rPr>
              <a:t>, nukreipti </a:t>
            </a:r>
            <a:r>
              <a:rPr b="0" lang="lt-LT" sz="1600" spc="-1" strike="noStrike" u="sng">
                <a:solidFill>
                  <a:srgbClr val="000000"/>
                </a:solidFill>
                <a:uFillTx/>
                <a:latin typeface="Arial"/>
              </a:rPr>
              <a:t>ir prieš civilius, ir prieš kombatantus</a:t>
            </a:r>
            <a:r>
              <a:rPr b="0" lang="lt-LT" sz="1600" spc="-1" strike="noStrike">
                <a:solidFill>
                  <a:srgbClr val="000000"/>
                </a:solidFill>
                <a:latin typeface="Arial"/>
              </a:rPr>
              <a:t> (panašūs ir dar daugiau veiksmų: pvz., civilinio objekto puolimas, neteisėtas apsauginės emblemos naudojimas, pasidavusio kombatanto ar karo belaisvio nužudymas, nepateisinamas karine būtinybe turto sunaikinimas, įkaitų paėmimas, pareiškimas dėl nepasigailėjimo, bado naudojimas, žeminantis elgesys, kt.), ir vykdomi </a:t>
            </a:r>
            <a:r>
              <a:rPr b="0" lang="lt-LT" sz="1600" spc="-1" strike="noStrike" u="sng">
                <a:solidFill>
                  <a:srgbClr val="000000"/>
                </a:solidFill>
                <a:uFillTx/>
                <a:latin typeface="Arial"/>
              </a:rPr>
              <a:t>tik ginkluoto konflikto metu</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4) </a:t>
            </a:r>
            <a:r>
              <a:rPr b="1" lang="lt-LT" sz="1800" spc="-1" strike="noStrike">
                <a:solidFill>
                  <a:srgbClr val="000000"/>
                </a:solidFill>
                <a:latin typeface="Arial"/>
              </a:rPr>
              <a:t>agresijos nusikaltimas</a:t>
            </a:r>
            <a:r>
              <a:rPr b="0" lang="lt-LT" sz="2000" spc="-1" strike="noStrike">
                <a:solidFill>
                  <a:srgbClr val="000000"/>
                </a:solidFill>
                <a:latin typeface="Arial"/>
              </a:rPr>
              <a:t> </a:t>
            </a:r>
            <a:r>
              <a:rPr b="0" lang="lt-LT" sz="1600" spc="-1" strike="noStrike">
                <a:solidFill>
                  <a:srgbClr val="000000"/>
                </a:solidFill>
                <a:latin typeface="Arial"/>
              </a:rPr>
              <a:t>– apibrėžimas fizinio asmens baudžiamosios atsakomybės tikslais dar neįsigaliojęs, todėl kol kas jurisdikcija nevykdoma (2010 06 11 peržiūros konferencijos rezoliucija RC/Res.6 patvirtintos Romos statuto pataisos – 8 </a:t>
            </a:r>
            <a:r>
              <a:rPr b="0" i="1" lang="lt-LT" sz="1600" spc="-1" strike="noStrike">
                <a:solidFill>
                  <a:srgbClr val="000000"/>
                </a:solidFill>
                <a:latin typeface="Arial"/>
              </a:rPr>
              <a:t>bis</a:t>
            </a:r>
            <a:r>
              <a:rPr b="0" lang="lt-LT" sz="1600" spc="-1" strike="noStrike">
                <a:solidFill>
                  <a:srgbClr val="000000"/>
                </a:solidFill>
                <a:latin typeface="Arial"/>
              </a:rPr>
              <a:t> str.: 1974 m. JT GA Rezoliucijoje dėl agresijos apibrėžimo apibrėžtų agresijos aktų planavimas, rengimas, pradėjimas ar vykdymas, kai tai atlieka galintys efektyviai kontroliuoti ar vadovauti valstybės politiniams ar kariniams veiksmams asmen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io Baudžiamojo Teismo jurisdikcija – tęsinys</a:t>
            </a:r>
            <a:br>
              <a:rPr sz="2400"/>
            </a:br>
            <a:r>
              <a:rPr b="0" lang="lt-LT" sz="1800" spc="-1" strike="noStrike">
                <a:solidFill>
                  <a:srgbClr val="000000"/>
                </a:solidFill>
                <a:latin typeface="Arial"/>
              </a:rPr>
              <a:t>(TBT Romos statuto 11-17, 20 str.)</a:t>
            </a:r>
            <a:endParaRPr b="0" lang="en-US" sz="1800" spc="-1" strike="noStrike">
              <a:solidFill>
                <a:srgbClr val="000000"/>
              </a:solidFill>
              <a:latin typeface="Arial"/>
            </a:endParaRPr>
          </a:p>
        </p:txBody>
      </p:sp>
      <p:sp>
        <p:nvSpPr>
          <p:cNvPr id="159"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Arial"/>
              </a:rPr>
              <a:t>Ratione temporis</a:t>
            </a:r>
            <a:r>
              <a:rPr b="0" lang="lt-LT" sz="1800" spc="-1" strike="noStrike">
                <a:solidFill>
                  <a:srgbClr val="000000"/>
                </a:solidFill>
                <a:latin typeface="Arial"/>
              </a:rPr>
              <a:t> – </a:t>
            </a:r>
            <a:r>
              <a:rPr b="0" lang="lt-LT" sz="1600" spc="-1" strike="noStrike">
                <a:solidFill>
                  <a:srgbClr val="000000"/>
                </a:solidFill>
                <a:latin typeface="Arial"/>
              </a:rPr>
              <a:t>nusikaltimas, padarytas po Teismo Statuto įsigaliojimo (2002 07 01) ir po jo įsigaliojimo atitinkamai valstybei, jei ji nepripažino Teismo jurisdikcijos atgal iki Statuto įsigaliojimo dato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Arial"/>
              </a:rPr>
              <a:t>Ratione loci</a:t>
            </a:r>
            <a:r>
              <a:rPr b="0" lang="lt-LT" sz="1800" spc="-1" strike="noStrike">
                <a:solidFill>
                  <a:srgbClr val="000000"/>
                </a:solidFill>
                <a:latin typeface="Arial"/>
              </a:rPr>
              <a:t> – </a:t>
            </a:r>
            <a:r>
              <a:rPr b="0" lang="lt-LT" sz="1600" spc="-1" strike="noStrike">
                <a:solidFill>
                  <a:srgbClr val="000000"/>
                </a:solidFill>
                <a:latin typeface="Arial"/>
              </a:rPr>
              <a:t>nusikaltimas padarytas valstybės, Statuto dalyvės, teritorijoje ar joje registruotame laive ar orlaivyje (pgl. JT ST kreipimąsi netaikoma),</a:t>
            </a:r>
            <a:r>
              <a:rPr b="0" lang="lt-LT" sz="1800" spc="-1" strike="noStrike">
                <a:solidFill>
                  <a:srgbClr val="000000"/>
                </a:solidFill>
                <a:latin typeface="Arial"/>
              </a:rPr>
              <a:t> </a:t>
            </a:r>
            <a:r>
              <a:rPr b="0" lang="lt-LT" sz="1800" spc="-1" strike="noStrike" u="sng">
                <a:solidFill>
                  <a:srgbClr val="000000"/>
                </a:solidFill>
                <a:uFillTx/>
                <a:latin typeface="Arial"/>
              </a:rPr>
              <a:t>arba</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Arial"/>
              </a:rPr>
              <a:t>Ratione personae</a:t>
            </a:r>
            <a:r>
              <a:rPr b="0" lang="lt-LT" sz="1800" spc="-1" strike="noStrike">
                <a:solidFill>
                  <a:srgbClr val="000000"/>
                </a:solidFill>
                <a:latin typeface="Arial"/>
              </a:rPr>
              <a:t> – </a:t>
            </a:r>
            <a:r>
              <a:rPr b="0" lang="lt-LT" sz="1600" spc="-1" strike="noStrike">
                <a:solidFill>
                  <a:srgbClr val="000000"/>
                </a:solidFill>
                <a:latin typeface="Arial"/>
              </a:rPr>
              <a:t>nusikaltimo padarymu įtariamas valstybės, Statuto dalyvės pilietis, kad ir kur nusikaltimas būtų padarytas (pgl. JT ST kreipimąsi netaikoma)</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Jurisdikcijos papildomumas</a:t>
            </a:r>
            <a:r>
              <a:rPr b="0" lang="lt-LT" sz="1800" spc="-1" strike="noStrike">
                <a:solidFill>
                  <a:srgbClr val="000000"/>
                </a:solidFill>
                <a:latin typeface="Arial"/>
              </a:rPr>
              <a:t> – Teismas vykdo jurisdikciją, kai to negali (dėl objektyvių priežasčių) arba nenori (dėl subjektyvių priežasčių) daryti atitinkama valstybė:</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 nacionalinis teismas siekė apsaugoti asmenį nuo atsakomybė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acionaliniame teisme byla nepagrįstai vilkina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nacionaliniame teisme nėra nepriklausomo ir nešališko bylos nagrinėjim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Jurisdikcijos vykdymo atidėjimas</a:t>
            </a:r>
            <a:r>
              <a:rPr b="0" lang="lt-LT" sz="1800" spc="-1" strike="noStrike">
                <a:solidFill>
                  <a:srgbClr val="000000"/>
                </a:solidFill>
                <a:latin typeface="Arial"/>
              </a:rPr>
              <a:t> – JT ST įsiterpimas: </a:t>
            </a:r>
            <a:r>
              <a:rPr b="0" lang="lt-LT" sz="1600" spc="-1" strike="noStrike">
                <a:solidFill>
                  <a:srgbClr val="000000"/>
                </a:solidFill>
                <a:latin typeface="Arial"/>
              </a:rPr>
              <a:t>ST gali atidėti vykdymą 12 mėn. priimdama rezoliuciją pagal JT Chartijos VII skyrių prašant Teismo nevykdyti jurisdikcijos; galimas pakartotinis prašyma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Jurisdikcijos vykdymo pradžia</a:t>
            </a:r>
            <a:r>
              <a:rPr b="0" lang="lt-LT" sz="1600" spc="-1" strike="noStrike">
                <a:solidFill>
                  <a:srgbClr val="000000"/>
                </a:solidFill>
                <a:latin typeface="Arial"/>
              </a:rPr>
              <a:t> </a:t>
            </a:r>
            <a:r>
              <a:rPr b="0" lang="lt-LT" sz="1800" spc="-1" strike="noStrike">
                <a:solidFill>
                  <a:srgbClr val="000000"/>
                </a:solidFill>
                <a:latin typeface="Arial"/>
              </a:rPr>
              <a:t>– gali pradėti šių subjektų iniciatyv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1) valstybės, Statuto dalyvės, kreipima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2) JT ST kreipimasis pagal JT Chartijos VII skyrių (netaikoma </a:t>
            </a:r>
            <a:r>
              <a:rPr b="0" i="1" lang="lt-LT" sz="1600" spc="-1" strike="noStrike">
                <a:solidFill>
                  <a:srgbClr val="000000"/>
                </a:solidFill>
                <a:latin typeface="Arial"/>
              </a:rPr>
              <a:t>ratione loci</a:t>
            </a:r>
            <a:r>
              <a:rPr b="0" lang="lt-LT" sz="1600" spc="-1" strike="noStrike">
                <a:solidFill>
                  <a:srgbClr val="000000"/>
                </a:solidFill>
                <a:latin typeface="Arial"/>
              </a:rPr>
              <a:t> ir </a:t>
            </a:r>
            <a:r>
              <a:rPr b="0" i="1" lang="lt-LT" sz="1600" spc="-1" strike="noStrike">
                <a:solidFill>
                  <a:srgbClr val="000000"/>
                </a:solidFill>
                <a:latin typeface="Arial"/>
              </a:rPr>
              <a:t>ratione personae </a:t>
            </a:r>
            <a:r>
              <a:rPr b="0" lang="lt-LT" sz="1600" spc="-1" strike="noStrike">
                <a:solidFill>
                  <a:srgbClr val="000000"/>
                </a:solidFill>
                <a:latin typeface="Arial"/>
              </a:rPr>
              <a:t>ribojimai – t.y. dėl bet kur ir bet kurių asmenų nusikaltim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3) prokuroras </a:t>
            </a:r>
            <a:r>
              <a:rPr b="0" i="1" lang="lt-LT" sz="1600" spc="-1" strike="noStrike">
                <a:solidFill>
                  <a:srgbClr val="000000"/>
                </a:solidFill>
                <a:latin typeface="Arial"/>
              </a:rPr>
              <a:t>proprio mot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Kiti priimtinumo pagrind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byla neištirta nacionaliniu lygiu ir nebus </a:t>
            </a:r>
            <a:r>
              <a:rPr b="0" i="1" lang="lt-LT" sz="1600" spc="-1" strike="noStrike">
                <a:solidFill>
                  <a:srgbClr val="000000"/>
                </a:solidFill>
                <a:latin typeface="Arial"/>
              </a:rPr>
              <a:t>ne bis in idem</a:t>
            </a:r>
            <a:r>
              <a:rPr b="0" lang="lt-LT" sz="1600" spc="-1" strike="noStrike">
                <a:solidFill>
                  <a:srgbClr val="000000"/>
                </a:solidFill>
                <a:latin typeface="Arial"/>
              </a:rPr>
              <a:t> principo pažeidi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byla pakankamai rim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iplomatinės ir konsulinės teisės šaltiniai</a:t>
            </a:r>
            <a:endParaRPr b="0" lang="en-US" sz="2400" spc="-1" strike="noStrike">
              <a:solidFill>
                <a:srgbClr val="000000"/>
              </a:solidFill>
              <a:latin typeface="Arial"/>
            </a:endParaRPr>
          </a:p>
        </p:txBody>
      </p:sp>
      <p:sp>
        <p:nvSpPr>
          <p:cNvPr id="56"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ė teis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61 m. Vienos konvencija dėl diplomatinių santy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69 m. (Niujorko) Konvencija dėl specialiųjų misij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ES sutartis (26, 27, 35, 36, kt. str.), Sutartis dėl ES veikimo (220, 221, kt. st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acionaliniai įstatymai: LR Diplomatinės tarnybos įstatymas, LR įstatymas dėl užsienio valstybių diplomatinių atstovybių LR statuso, k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onsulinė teis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63 m. Vienos konvencija dėl konsulinių santy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67 m. Europos konvencija dėl konsulinių funkcij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dvišalės tarptautinės sutartys: konsulinės konvencijos (LR turi su Gruzija, Ukraina, Rusija, Kinija, Lenkija), sutartys dėl konsulinės pagalbos trečiosiose šalyse (LR turi su Lenkija dėl konsulinės pagalbos Tunise, Maroke ir Alžyre), sutartys dėl piliečių kelionių režimo, vizų panaikinimo, 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ES teisė: ES sutartis (9 str.), Sutartis dėl ES veikimo (20, 23 str.), ES Tarybos sprendimai (dėl ES piliečių gynybos, Bendrosios konsulinės instrukcijos dėl vizų, 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Nacionaliniai įstatymai: LR Konsulinis statutas, sektoriniai įstatymai (Pilietybės, Notariato, kt.), Vyriausybės nutarimai, užsienio reikalų ministro įsakymai, k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BT struktūra</a:t>
            </a:r>
            <a:br>
              <a:rPr sz="4000"/>
            </a:br>
            <a:r>
              <a:rPr b="0" lang="lt-LT" sz="1800" spc="-1" strike="noStrike">
                <a:solidFill>
                  <a:srgbClr val="000000"/>
                </a:solidFill>
                <a:latin typeface="Arial"/>
              </a:rPr>
              <a:t>(TBT Romos statuto 34-43 str.)</a:t>
            </a:r>
            <a:endParaRPr b="0" lang="en-US" sz="1800" spc="-1" strike="noStrike">
              <a:solidFill>
                <a:srgbClr val="000000"/>
              </a:solidFill>
              <a:latin typeface="Arial"/>
            </a:endParaRPr>
          </a:p>
        </p:txBody>
      </p:sp>
      <p:sp>
        <p:nvSpPr>
          <p:cNvPr id="161"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Prezidiumas</a:t>
            </a:r>
            <a:r>
              <a:rPr b="0" lang="lt-LT" sz="2800" spc="-1" strike="noStrike">
                <a:solidFill>
                  <a:srgbClr val="000000"/>
                </a:solidFill>
                <a:latin typeface="Arial"/>
              </a:rPr>
              <a:t> – Pirmininkas ir 2 pavaduotojai: </a:t>
            </a:r>
            <a:r>
              <a:rPr b="0" lang="lt-LT" sz="2400" spc="-1" strike="noStrike">
                <a:solidFill>
                  <a:srgbClr val="000000"/>
                </a:solidFill>
                <a:latin typeface="Arial"/>
              </a:rPr>
              <a:t>atsako už Teismo, išskyrus Prokuratūrą, administravimą</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Arial"/>
              </a:rPr>
              <a:t>Skyriai ir kolegijos</a:t>
            </a:r>
            <a:r>
              <a:rPr b="0" lang="lt-LT" sz="2800" spc="-1" strike="noStrike">
                <a:solidFill>
                  <a:srgbClr val="000000"/>
                </a:solidFill>
                <a:latin typeface="Arial"/>
              </a:rPr>
              <a:t> (kolegijos vykdo teismines funkcij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Apeliacinis skyrius</a:t>
            </a:r>
            <a:r>
              <a:rPr b="0" lang="lt-LT" sz="2400" spc="-1" strike="noStrike">
                <a:solidFill>
                  <a:srgbClr val="000000"/>
                </a:solidFill>
                <a:latin typeface="Arial"/>
              </a:rPr>
              <a:t> (Pirmininkas ir dar 4 teisėjai) – Apeliacinę kolegiją sudaro visi skyriaus teisėj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Teisminio nagrinėjimo skyrius</a:t>
            </a:r>
            <a:r>
              <a:rPr b="0" lang="lt-LT" sz="2400" spc="-1" strike="noStrike">
                <a:solidFill>
                  <a:srgbClr val="000000"/>
                </a:solidFill>
                <a:latin typeface="Arial"/>
              </a:rPr>
              <a:t> (ne mažiau kaip 6 teisėjai) – kolegiją sudaro 3 skyriaus teisėj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1" lang="lt-LT" sz="2400" spc="-1" strike="noStrike">
                <a:solidFill>
                  <a:srgbClr val="000000"/>
                </a:solidFill>
                <a:latin typeface="Arial"/>
              </a:rPr>
              <a:t>Ikiteisminio tyrimo skyrius</a:t>
            </a:r>
            <a:r>
              <a:rPr b="0" lang="lt-LT" sz="2400" spc="-1" strike="noStrike">
                <a:solidFill>
                  <a:srgbClr val="000000"/>
                </a:solidFill>
                <a:latin typeface="Arial"/>
              </a:rPr>
              <a:t> (ne mažiau kaip 6 teisėjai) – kolegiją sudaro 3 skyriaus teisėjai arba 1 skyriaus teisėj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Prokuratūra</a:t>
            </a:r>
            <a:r>
              <a:rPr b="0" lang="lt-LT" sz="2800" spc="-1" strike="noStrike">
                <a:solidFill>
                  <a:srgbClr val="000000"/>
                </a:solidFill>
                <a:latin typeface="Arial"/>
              </a:rPr>
              <a:t> – </a:t>
            </a:r>
            <a:r>
              <a:rPr b="0" lang="lt-LT" sz="2400" spc="-1" strike="noStrike">
                <a:solidFill>
                  <a:srgbClr val="000000"/>
                </a:solidFill>
                <a:latin typeface="Arial"/>
              </a:rPr>
              <a:t>savarankiškas ir nepriklausomas Teismo padalinys, vadovaujamas prokuroro (turi pavaduotojus) ir atsakantis už Teismui perduodamas bylas, ikiteisminį tyrimą ir kaltinimo palaikym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Sekretoriatas</a:t>
            </a:r>
            <a:r>
              <a:rPr b="0" lang="lt-LT" sz="2800" spc="-1" strike="noStrike">
                <a:solidFill>
                  <a:srgbClr val="000000"/>
                </a:solidFill>
                <a:latin typeface="Arial"/>
              </a:rPr>
              <a:t> – </a:t>
            </a:r>
            <a:r>
              <a:rPr b="0" lang="lt-LT" sz="2400" spc="-1" strike="noStrike">
                <a:solidFill>
                  <a:srgbClr val="000000"/>
                </a:solidFill>
                <a:latin typeface="Arial"/>
              </a:rPr>
              <a:t>neteisminis Teismo administravimas ir aptarnavimas, vadovauja sekretorius, vadovaujamas Teismo Pirminink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eisinė pagalba</a:t>
            </a:r>
            <a:endParaRPr b="0" lang="en-US" sz="2400" spc="-1" strike="noStrike">
              <a:solidFill>
                <a:srgbClr val="000000"/>
              </a:solidFill>
              <a:latin typeface="Arial"/>
            </a:endParaRPr>
          </a:p>
        </p:txBody>
      </p:sp>
      <p:sp>
        <p:nvSpPr>
          <p:cNvPr id="163"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inė pagalba</a:t>
            </a:r>
            <a:r>
              <a:rPr b="0" lang="lt-LT" sz="1600" spc="-1" strike="noStrike">
                <a:solidFill>
                  <a:srgbClr val="000000"/>
                </a:solidFill>
                <a:latin typeface="Arial"/>
              </a:rPr>
              <a:t> – tam tikrų teisinių aktų atlikimas vienoje valstybėje kitos valstybės naudai: </a:t>
            </a:r>
            <a:r>
              <a:rPr b="0" lang="lt-LT" sz="1500" spc="-1" strike="noStrike">
                <a:solidFill>
                  <a:srgbClr val="000000"/>
                </a:solidFill>
                <a:latin typeface="Arial"/>
              </a:rPr>
              <a:t>teisinių dokumentų rengimas, persiuntimas ir įteikimas, baudžiamojo ir civilinio procesų veiksmų atlikimas (kratos, poėmiai, įrodymų rinkimas, liudytojų apklausa, ekspertizės, kt.), teismų sprendimų pripažinimas ir vykdymas, asmenų paieška, ekstradicija, atliekančių bausmę asmenų perdavimas, teisinę reikšmę turinčių duomenų persiuntimas (apie teistumą, pa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500" spc="-1" strike="noStrike">
                <a:solidFill>
                  <a:srgbClr val="000000"/>
                </a:solidFill>
                <a:latin typeface="Arial"/>
              </a:rPr>
              <a:t>- teikiama per atsakingas (įgaliotas) institucijas: LR Teisingumo ministerija ir Generalinė prokuratūra</a:t>
            </a:r>
            <a:endParaRPr b="0" lang="en-US" sz="15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inės pagalbos srity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Informacinis bendradarbiav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isinė pagalba civilinėse (ir šeimos) bylo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eisinė pagalba baudžiamosiose (ir administracinėse) bylo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Ekstradicija (gali priklausyti teisinei pagalbai baudžiamosiose bylo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uteistųjų asmenų perdav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as – dvišalės ir daugiašalės tarptautinės sutartys, ES teisės aktai</a:t>
            </a:r>
            <a:r>
              <a:rPr b="0" lang="lt-LT" sz="1600" spc="-1" strike="noStrike">
                <a:solidFill>
                  <a:srgbClr val="000000"/>
                </a:solidFill>
                <a:latin typeface="Arial"/>
              </a:rPr>
              <a:t> (specialios ES taisyklės teisminio ir policijos bendradarbiavimo srityj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višalės sutartys: LR turi su Rusija, Baltarusija, Lenkija, Moldova, Ukraina, Kinija, Kazachstanu, Uzbekistanu, JAV, Armėnija, Azerbaidžanu, Estija bei Latvija (trišalė sutartis), k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Daugiašalės sutartys: ET konvencijos (1959 m. Europos konvencija dėl savitarpio pagalbos baudžiamosiose bylose, 1968 m. ET konvencija dėl informacijos apie užsienio teisę, 1977 m. Europos sutartis dėl teisinės pagalbos prašymų perdavimo), ES sutartys (2000 m. ES konvencija dėl savitarpio pagalbos baudžiamosiose bylose), JT konvencijos (1958 m. Niujorko konvencija dėl užsienio arbitražų sprendimų pripažinimo ir vykdymo)</a:t>
            </a:r>
            <a:endParaRPr b="0" lang="en-US" sz="16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ES teisės aktai: 2002 06 13 Tarybos pamatinis sprendimas 2002/584/TVR dėl Europos arešto orderio ir perdavimo tarp valstybių narių tvarkos, 2000 12 22 Tarybos reglamentas 44/2001/EB dėl jurisdikcijos ir teismų sprendimų civilinėse ir komercinėse bylose pripažinimo ir vykdymo (Briuselis I), 2003 11 27 Tarybos reglamentas 2201/2003/EB dėl jurisdikcijos ir teismų sprendimų, susijusių su santuoka ir tėvų pareigomis abiejų sutuoktinių vaikams, pripažinimo ir vykdymo, k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arptautinio pobūdžio nusikaltimai</a:t>
            </a:r>
            <a:endParaRPr b="0" lang="en-US" sz="1800" spc="-1" strike="noStrike">
              <a:solidFill>
                <a:srgbClr val="000000"/>
              </a:solidFill>
              <a:latin typeface="Arial"/>
            </a:endParaRPr>
          </a:p>
        </p:txBody>
      </p:sp>
      <p:sp>
        <p:nvSpPr>
          <p:cNvPr id="165" name="PlaceHolder 2"/>
          <p:cNvSpPr>
            <a:spLocks noGrp="1"/>
          </p:cNvSpPr>
          <p:nvPr>
            <p:ph/>
          </p:nvPr>
        </p:nvSpPr>
        <p:spPr>
          <a:xfrm>
            <a:off x="0" y="259920"/>
            <a:ext cx="9144000" cy="6597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arptautinio pobūdžio nusikaltimai </a:t>
            </a:r>
            <a:r>
              <a:rPr b="0" lang="lt-LT" sz="1600" spc="-1" strike="noStrike">
                <a:solidFill>
                  <a:srgbClr val="000000"/>
                </a:solidFill>
                <a:latin typeface="Arial"/>
              </a:rPr>
              <a:t>– kriminaliniai nusikaltimai, kuriais nepažeidžiamos tarptautinės teisės normos, bet kurių pasekmės peržengia vienos valstybės ribas (žalingos kelioms valstybėms) ir kova su kuriais dėl to yra tarptautinės bendrijos interes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kirtumai nuo tarptautinių nusikaltimų</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sikėsina į fundamentalias tarptautinės bendrijos vertybes ir nėra sunkūs </a:t>
            </a:r>
            <a:r>
              <a:rPr b="0" i="1" lang="lt-LT" sz="1600" spc="-1" strike="noStrike">
                <a:solidFill>
                  <a:srgbClr val="000000"/>
                </a:solidFill>
                <a:latin typeface="Arial"/>
              </a:rPr>
              <a:t>jus cogens</a:t>
            </a:r>
            <a:r>
              <a:rPr b="0" lang="lt-LT" sz="1600" spc="-1" strike="noStrike">
                <a:solidFill>
                  <a:srgbClr val="000000"/>
                </a:solidFill>
                <a:latin typeface="Arial"/>
              </a:rPr>
              <a:t> normų pažeidim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usikaltimų sudėtis apibrėžia tik tarptautinės sutartys (ne bendroji TT) siekiant unifikuoti nacionalinius baudžiamuosius įstatymus kovos su tarptautiniu nusikalstamumu interesa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gali būti taikoma senatis, taikomas </a:t>
            </a:r>
            <a:r>
              <a:rPr b="0" i="1" lang="lt-LT" sz="1600" spc="-1" strike="noStrike">
                <a:solidFill>
                  <a:srgbClr val="000000"/>
                </a:solidFill>
                <a:latin typeface="Arial"/>
              </a:rPr>
              <a:t>lex retro non agit</a:t>
            </a:r>
            <a:r>
              <a:rPr b="0" lang="lt-LT" sz="1600" spc="-1" strike="noStrike">
                <a:solidFill>
                  <a:srgbClr val="000000"/>
                </a:solidFill>
                <a:latin typeface="Arial"/>
              </a:rPr>
              <a:t> principas, nėra universalios jurisdikcij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m tikra valstybių nuožiūros laisvė perkeliant nusikaltimų sudėtis į nacionalinę teisę ir nustatant bausm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arptautinio pobūdžio nusikaltim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erorizmo  nusikaltimai </a:t>
            </a:r>
            <a:r>
              <a:rPr b="0" lang="lt-LT" sz="1200" spc="-1" strike="noStrike">
                <a:solidFill>
                  <a:srgbClr val="000000"/>
                </a:solidFill>
                <a:latin typeface="Arial"/>
              </a:rPr>
              <a:t>(antiteroristinės konvencij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rekyba žmonėmis ir prostitucija </a:t>
            </a:r>
            <a:r>
              <a:rPr b="0" lang="lt-LT" sz="1200" spc="-1" strike="noStrike">
                <a:solidFill>
                  <a:srgbClr val="000000"/>
                </a:solidFill>
                <a:latin typeface="Arial"/>
              </a:rPr>
              <a:t>(1904 m. Tarptautinis susitarimas ir 1910 m. Tarptautinė konvencija dėl kovos su prekyba baltosiomis vergėmis, 1921 m. Tarptautinė konvencija dėl kovos su prekyba moterimis ir vaikais, 1933 m. Tarptautinė konvencija dėl kovos su prekyba pilnametėmis moterimis, 1949 m. JT konvencija dėl kovos su žmonių prekyba ir trečiųjų asmenų išnaudojimu prostitucija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ornografija </a:t>
            </a:r>
            <a:r>
              <a:rPr b="0" lang="lt-LT" sz="1200" spc="-1" strike="noStrike">
                <a:solidFill>
                  <a:srgbClr val="000000"/>
                </a:solidFill>
                <a:latin typeface="Arial"/>
              </a:rPr>
              <a:t>(1923 m. Tarptautinė konvencija dėl kovos su pornografinių leidinių apyvarta ir prekyba, JT Vaiko teisių konvencijos 2000 m. fakultatyvusis protokolas dėl vaikų pardavimo, vaikų prostitucijos ir vaikų pornografij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rkotinių ir psichotropinių medžiagų gamyba ir platinimas </a:t>
            </a:r>
            <a:r>
              <a:rPr b="0" lang="lt-LT" sz="1200" spc="-1" strike="noStrike">
                <a:solidFill>
                  <a:srgbClr val="000000"/>
                </a:solidFill>
                <a:latin typeface="Arial"/>
              </a:rPr>
              <a:t>(1961 m. JT Bendroji narkotinių medžiagų konvencija, 1988 m. JT Konvencija dėl kovos su neteisėta narkotinių priemonių ir psichotropinių medžiagų apyvart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inansiniai nusikaltimai </a:t>
            </a:r>
            <a:r>
              <a:rPr b="0" lang="lt-LT" sz="1200" spc="-1" strike="noStrike">
                <a:solidFill>
                  <a:srgbClr val="000000"/>
                </a:solidFill>
                <a:latin typeface="Arial"/>
              </a:rPr>
              <a:t>(1929 m. Tarptautinė konvencija dėl kovos su pinigų padirbinėjimu, 1994 m. ET konvencija dėl pinigų išplovimo ir  nusikalstamu būdu įgytų pajamų paieškos, arešto bei konfiskavim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arptautinis organizuotas nusikalstamumas </a:t>
            </a:r>
            <a:r>
              <a:rPr b="0" lang="lt-LT" sz="1200" spc="-1" strike="noStrike">
                <a:solidFill>
                  <a:srgbClr val="000000"/>
                </a:solidFill>
                <a:latin typeface="Arial"/>
              </a:rPr>
              <a:t>(2000 m. JT konvencija prieš tarptautinį organizuotą nusikalstamum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rupcija</a:t>
            </a:r>
            <a:r>
              <a:rPr b="0" lang="lt-LT" sz="1200" spc="-1" strike="noStrike">
                <a:solidFill>
                  <a:srgbClr val="000000"/>
                </a:solidFill>
                <a:latin typeface="Arial"/>
              </a:rPr>
              <a:t> (1999 m. ET Baudžiamosios teisės konvencija dėl korupcij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elektroniniai nusikaltimai </a:t>
            </a:r>
            <a:r>
              <a:rPr b="0" lang="lt-LT" sz="1200" spc="-1" strike="noStrike">
                <a:solidFill>
                  <a:srgbClr val="000000"/>
                </a:solidFill>
                <a:latin typeface="Arial"/>
              </a:rPr>
              <a:t>(2001 m. ET konvencija dėl elektroninių nusikaltimų);</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iratavimas (?) </a:t>
            </a:r>
            <a:r>
              <a:rPr b="0" lang="lt-LT" sz="1200" spc="-1" strike="noStrike">
                <a:solidFill>
                  <a:srgbClr val="000000"/>
                </a:solidFill>
                <a:latin typeface="Arial"/>
              </a:rPr>
              <a:t>(1982 m. JT Jūrų teisės konvencijos 101 str.);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eisinio reglamentavimo specifika</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600" spc="-1" strike="noStrike">
                <a:solidFill>
                  <a:srgbClr val="000000"/>
                </a:solidFill>
                <a:latin typeface="Arial"/>
              </a:rPr>
              <a:t>aut dedere aut judicare</a:t>
            </a:r>
            <a:r>
              <a:rPr b="0" lang="lt-LT" sz="1600" spc="-1" strike="noStrike">
                <a:solidFill>
                  <a:srgbClr val="000000"/>
                </a:solidFill>
                <a:latin typeface="Arial"/>
              </a:rPr>
              <a:t> princip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pagrindas ekstradicijai, nesant kitų dvišalių ar daugiašalių sutarči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erorizmo nusikaltimai</a:t>
            </a:r>
            <a:endParaRPr b="0" lang="en-US" sz="2000" spc="-1" strike="noStrike">
              <a:solidFill>
                <a:srgbClr val="000000"/>
              </a:solidFill>
              <a:latin typeface="Arial"/>
            </a:endParaRPr>
          </a:p>
        </p:txBody>
      </p:sp>
      <p:sp>
        <p:nvSpPr>
          <p:cNvPr id="167" name="PlaceHolder 2"/>
          <p:cNvSpPr>
            <a:spLocks noGrp="1"/>
          </p:cNvSpPr>
          <p:nvPr>
            <p:ph/>
          </p:nvPr>
        </p:nvSpPr>
        <p:spPr>
          <a:xfrm>
            <a:off x="0" y="333360"/>
            <a:ext cx="9144000" cy="65246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erorizmas</a:t>
            </a:r>
            <a:r>
              <a:rPr b="0" lang="lt-LT" sz="1800" spc="-1" strike="noStrike">
                <a:solidFill>
                  <a:srgbClr val="000000"/>
                </a:solidFill>
                <a:latin typeface="Arial"/>
              </a:rPr>
              <a:t> – socialinis reiškinys, pasižymintis neatrankinio pobūdžio kriminaliniais aktais (teroristinėmis veikomis), kurie pasižymi šiais bruožais: 1) paprastai yra susiję su politiniais motyvais ir tikslais, 2) jais siekiama įbauginti visą visuomenę, kad būtų sudarytos palankios sąlygos keliamiems reikalavimams tenkinti, 3) todėl be atrankos puolama kuo daugiau civilių – siekiama kuo didesnės žalos visuomenei (tiesiogiai nesusijusiems su keliamų reikalavimų tenkinimu žmonėm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ektorinis reglamentavimas</a:t>
            </a:r>
            <a:r>
              <a:rPr b="0" lang="lt-LT" sz="1800" spc="-1" strike="noStrike">
                <a:solidFill>
                  <a:srgbClr val="000000"/>
                </a:solidFill>
                <a:latin typeface="Arial"/>
              </a:rPr>
              <a:t> kovojant su terorizmo nusikaltimu (teroristinėmis veikomis) :</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JT antiteroristinės konvencijos</a:t>
            </a:r>
            <a:r>
              <a:rPr b="0" lang="lt-LT" sz="1600" spc="-1" strike="noStrike">
                <a:solidFill>
                  <a:srgbClr val="000000"/>
                </a:solidFill>
                <a:latin typeface="Arial"/>
              </a:rPr>
              <a:t> – 16 tarptautinių sutarčių, kuriuose dalyvauti valstybes įpareigoja JT ST rezoliucijos (tarptautinio susisiekimo (oro ir jūrų transporto) apsauga, sprogstamųjų ir branduolinių medžiagų kontrolė, kova su terorizmo finansavimu): </a:t>
            </a:r>
            <a:r>
              <a:rPr b="0" lang="lt-LT" sz="1400" spc="-1" strike="noStrike">
                <a:solidFill>
                  <a:srgbClr val="000000"/>
                </a:solidFill>
                <a:latin typeface="Arial"/>
              </a:rPr>
              <a:t>1963 m. Tokijo konvencija dėl nusikaltimų ir tam tikrų kitų veiksmų, padarytų orlaiviuose, 1970 m. Hagos konvencija dėl kovos su neteisėtu orlaivio pagrobimu, 1971 m. Monrealio konvencija dėl kovos su smurtu prieš civilinės aviacijos saugumą,  1988 m. Protokolas dėl kovos su smurtu tarptautinę civilinę aviaciją aptarnaujančiuose oro uostuose, papildantis Konvenciją dėl kovos su smurtu prieš civilinės aviacijos saugumą, 1991 m. Konvencija dėl plastikinių sprogstamųjų medžiagų žymėjimo aptikimo tikslais, 1988 m. Konvencija dėl kovos su neteisėtais veiksmais prieš saugią jūrų laivybą (su 2005 m. Protokolu), 1988 m. Protokolas  dėl kovos su neteisėtais veiksmais prieš stacionarių platformų kontinentiniame šelfe saugą (su 2005 m. Protokolu), 1973 m. Konvencija dėl nusikaltimų, padarytų tarptautiniu mastu saugomiems asmenims, įskaitant diplomatus, prevencijos ir baudimo už juos, 1979 m. Tarptautinė konvencija dėl kovos su įkaitų ėmimu, 1997 m. Tarptautinė konvencija dėl kovos su teroristų vykdomais sprogdinimais, 1999 m. Tarptautinė konvencija dėl kovos su terorizmo finansavimu, 1979 m. Branduolinių medžiagų fizinės saugos konvencija (su 2005 m. pakeitimais), 2005 m. Tarptautinė konvencija dėl kovos su branduolinio terorizmo veiksmais;</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1977 m. ET konvencija dėl kovos su terorizmu</a:t>
            </a:r>
            <a:r>
              <a:rPr b="0" lang="lt-LT" sz="1600" spc="-1" strike="noStrike">
                <a:solidFill>
                  <a:srgbClr val="000000"/>
                </a:solidFill>
                <a:latin typeface="Arial"/>
              </a:rPr>
              <a:t> (įpareigoja kriminalizuoti daugumą JT antiteroristinėse konvencijose apibrėžtų teroristinių veikų ir </a:t>
            </a:r>
            <a:r>
              <a:rPr b="0" lang="lt-LT" sz="1600" spc="-1" strike="noStrike" u="sng">
                <a:solidFill>
                  <a:srgbClr val="000000"/>
                </a:solidFill>
                <a:uFillTx/>
                <a:latin typeface="Arial"/>
              </a:rPr>
              <a:t>nelaikyti jų politiniais nusikaltimais</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peciali tarptautinė kontrolės institucija</a:t>
            </a:r>
            <a:r>
              <a:rPr b="0" lang="lt-LT" sz="1800" spc="-1" strike="noStrike">
                <a:solidFill>
                  <a:srgbClr val="000000"/>
                </a:solidFill>
                <a:latin typeface="Arial"/>
              </a:rPr>
              <a:t> – JT ST Antiterorizmo komitetas (</a:t>
            </a:r>
            <a:r>
              <a:rPr b="0" i="1" lang="lt-LT" sz="1800" spc="-1" strike="noStrike">
                <a:solidFill>
                  <a:srgbClr val="000000"/>
                </a:solidFill>
                <a:latin typeface="Arial"/>
              </a:rPr>
              <a:t>Counter-Terrorism Committee</a:t>
            </a:r>
            <a:r>
              <a:rPr b="0" lang="lt-LT" sz="1800" spc="-1" strike="noStrike">
                <a:solidFill>
                  <a:srgbClr val="000000"/>
                </a:solidFill>
                <a:latin typeface="Arial"/>
              </a:rPr>
              <a:t>), įsteigtas pagal 2001 09 28 ST rezoliuciją Nr. 1373(2001): </a:t>
            </a:r>
            <a:r>
              <a:rPr b="0" lang="lt-LT" sz="1600" spc="-1" strike="noStrike">
                <a:solidFill>
                  <a:srgbClr val="000000"/>
                </a:solidFill>
                <a:latin typeface="Arial"/>
              </a:rPr>
              <a:t>kovos priemonės, jų kontrolė, teroristinių organizacijų sąraš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00" y="-5040"/>
            <a:ext cx="9252000" cy="40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Ekstradicija</a:t>
            </a:r>
            <a:br>
              <a:rPr sz="2000"/>
            </a:br>
            <a:r>
              <a:rPr b="0" lang="lt-LT" sz="1600" spc="-1" strike="noStrike">
                <a:solidFill>
                  <a:srgbClr val="000000"/>
                </a:solidFill>
                <a:latin typeface="Arial"/>
              </a:rPr>
              <a:t>(1957 m. Europos konvencija dėl ekstradicijos)</a:t>
            </a:r>
            <a:endParaRPr b="0" lang="en-US" sz="1600" spc="-1" strike="noStrike">
              <a:solidFill>
                <a:srgbClr val="000000"/>
              </a:solidFill>
              <a:latin typeface="Arial"/>
            </a:endParaRPr>
          </a:p>
        </p:txBody>
      </p:sp>
      <p:sp>
        <p:nvSpPr>
          <p:cNvPr id="169" name="PlaceHolder 2"/>
          <p:cNvSpPr>
            <a:spLocks noGrp="1"/>
          </p:cNvSpPr>
          <p:nvPr>
            <p:ph/>
          </p:nvPr>
        </p:nvSpPr>
        <p:spPr>
          <a:xfrm>
            <a:off x="0" y="475920"/>
            <a:ext cx="9144000" cy="6381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Ekstradicija</a:t>
            </a:r>
            <a:r>
              <a:rPr b="0" lang="lt-LT" sz="1600" spc="-1" strike="noStrike">
                <a:solidFill>
                  <a:srgbClr val="000000"/>
                </a:solidFill>
                <a:latin typeface="Arial"/>
              </a:rPr>
              <a:t> – oficialus besislepiančio nuo teisingumo asmens perdavimas kitai valstybei siekiant patraukti jį baudžiamojon atsakomybėn (ekstradicija siaurąja prasme) ar įvykdyti jam paskirtą bausmę (ekstradicija plačiąja prasme):</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arpvalstybinės teisinės pagalbos forma – vykdoma dvišalės ar daugiašalės teisinės pagalbos ar ekstradicijos sutarties pagrindu;</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oficialus aktas – atliekamas oficialiai prašant kitai valstybei, pagal oficialų kompetentingos institucijos sprendimą ir oficialia form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rocesinis veiksmas – vykdomas teisminės valdžios pagal vidaus teisę ir taikant atitinkamas teisingo teismo proceso garantij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ikslas – užtikrinti kitos valstybės baudžiamosios jurisdikcijos vykdym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ekstradicijos pareiga nėra absoliuti – išimtys dėl perduodančios valstybės interesų ir jurisdikcijos bei žmogaus teisių apsaug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ekstradicija nelaikomos specialios asmenų perdavimo procedūros: nuteistųjų asmenų perdavimas (kai turima ekstradicija siaurąja prasme), perdavimas tarptautiniams baudžiamiesiems teismams, Europos arešto orderio procedūr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Arial"/>
              </a:rPr>
              <a:t>Atsisakymo vykdyti ekstradiciją pagrindai</a:t>
            </a:r>
            <a:r>
              <a:rPr b="0" lang="lt-LT"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veika nėra nusikalstama pagal prašomos išduoti valstybės įstatymus;</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pagal abiejų šalių įstatymus gresianti ar paskirtoji bausmė yra mažesnė už nustatytą minimumą (1 m. ar 4 mėn. laisvės atėmimo);</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politinio nusikaltimo išlyga;</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300" spc="-1" strike="noStrike">
                <a:solidFill>
                  <a:srgbClr val="000000"/>
                </a:solidFill>
                <a:latin typeface="Arial"/>
              </a:rPr>
              <a:t>non bis in idem</a:t>
            </a:r>
            <a:r>
              <a:rPr b="0" lang="lt-LT" sz="1300" spc="-1" strike="noStrike">
                <a:solidFill>
                  <a:srgbClr val="000000"/>
                </a:solidFill>
                <a:latin typeface="Arial"/>
              </a:rPr>
              <a:t> taisyklė arba prašomos išduoti valstybės tyrimas dėl to paties nusikaltimo;</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pilietybės išlyga – galimybė neišduoti savo piliečių;</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baudžiamojo persekiojimo ar nubaudimo senatis pagal vienos iš valstybių teisę;</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mirties bausmės išlyga;</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nusikaltimo vietos išlyga – prašomos išduoti valstybės ar jos jurisdikcijai priklausanti teritorija;</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amnestija prašančioje šalyje;</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300" spc="-1" strike="noStrike">
                <a:solidFill>
                  <a:srgbClr val="000000"/>
                </a:solidFill>
                <a:latin typeface="Arial"/>
              </a:rPr>
              <a:t>in absentia</a:t>
            </a:r>
            <a:r>
              <a:rPr b="0" lang="lt-LT" sz="1300" spc="-1" strike="noStrike">
                <a:solidFill>
                  <a:srgbClr val="000000"/>
                </a:solidFill>
                <a:latin typeface="Arial"/>
              </a:rPr>
              <a:t> nuteisimo išlyga – jei nuteisimas neatitinka minimalių teisės į gynybą reikalavimų;</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persekiojimo tik už nusikaltimą, už kurį prašoma išduoti, išlyga;</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karinių nusikaltimų išlyga – veikos, nesančios nusikaltimais pagal įprastinę baudžiamąją teisę (nusikaltimai krašto apsaugai);</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000000"/>
                </a:solidFill>
                <a:latin typeface="Arial"/>
              </a:rPr>
              <a:t>finansinių nusikaltimų išlyga – jei prašomos išduoti valstybės teisė kitaip kvalifikuoja veiką ar nustato kitokias finansines taisykl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Tarptautinės jūrų teisės pagrindai</a:t>
            </a:r>
            <a:endParaRPr b="0" lang="en-US" sz="2400" spc="-1" strike="noStrike">
              <a:solidFill>
                <a:srgbClr val="000000"/>
              </a:solidFill>
              <a:latin typeface="Arial"/>
            </a:endParaRPr>
          </a:p>
        </p:txBody>
      </p:sp>
      <p:sp>
        <p:nvSpPr>
          <p:cNvPr id="171"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Tarptautinė jūrų teisė</a:t>
            </a:r>
            <a:r>
              <a:rPr b="0" lang="lt-LT" sz="2000" spc="-1" strike="noStrike">
                <a:solidFill>
                  <a:srgbClr val="000000"/>
                </a:solidFill>
                <a:latin typeface="Arial"/>
              </a:rPr>
              <a:t> – tarptautinės teisės šaka, kurios normos nustato jūros erdvių teisinį režimą ir reglamentuoja su jų naudojimu susijusias tarptautinės teisės subjektų teises ir pareig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agrindiniai šaltiniai</a:t>
            </a:r>
            <a:r>
              <a:rPr b="0" lang="lt-LT" sz="2000" spc="-1" strike="noStrike">
                <a:solidFill>
                  <a:srgbClr val="000000"/>
                </a:solidFill>
                <a:latin typeface="Arial"/>
              </a:rPr>
              <a:t> – 1982 m. JT Jūrų teisės konvencija</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pakeitė 1958 m. 4 Ženevos konvencijas (dėl teritorinės jūros ir gretutinės zonos, dėl atvirosios jūros, dėl kontinentinio šelfo ir žvejybos, dėl atvirosios jūros gyvųjų išteklių apsaugo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Jūrų erdvės</a:t>
            </a:r>
            <a:r>
              <a:rPr b="0" lang="lt-LT" sz="2000" spc="-1" strike="noStrike">
                <a:solidFill>
                  <a:srgbClr val="000000"/>
                </a:solidFill>
                <a:latin typeface="Arial"/>
              </a:rPr>
              <a:t>:</a:t>
            </a:r>
            <a:endParaRPr b="0" lang="en-US" sz="2000" spc="-1" strike="noStrike">
              <a:solidFill>
                <a:srgbClr val="000000"/>
              </a:solidFill>
              <a:latin typeface="Arial"/>
            </a:endParaRPr>
          </a:p>
        </p:txBody>
      </p:sp>
      <p:sp>
        <p:nvSpPr>
          <p:cNvPr id="172" name="Tiesioji jungtis 2"/>
          <p:cNvSpPr/>
          <p:nvPr/>
        </p:nvSpPr>
        <p:spPr>
          <a:xfrm flipH="1">
            <a:off x="7884720" y="4292640"/>
            <a:ext cx="12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iesioji jungtis 4"/>
          <p:cNvSpPr/>
          <p:nvPr/>
        </p:nvSpPr>
        <p:spPr>
          <a:xfrm flipH="1">
            <a:off x="7596360" y="4292640"/>
            <a:ext cx="28872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iesioji jungtis 7"/>
          <p:cNvSpPr/>
          <p:nvPr/>
        </p:nvSpPr>
        <p:spPr>
          <a:xfrm flipH="1">
            <a:off x="5148360" y="4581360"/>
            <a:ext cx="2448000" cy="36036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iesioji jungtis 9"/>
          <p:cNvSpPr/>
          <p:nvPr/>
        </p:nvSpPr>
        <p:spPr>
          <a:xfrm flipH="1">
            <a:off x="-360" y="4581360"/>
            <a:ext cx="759636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iesioji jungtis 13"/>
          <p:cNvSpPr/>
          <p:nvPr/>
        </p:nvSpPr>
        <p:spPr>
          <a:xfrm flipH="1">
            <a:off x="4716360" y="4948200"/>
            <a:ext cx="432000" cy="49680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iesioji jungtis 15"/>
          <p:cNvSpPr/>
          <p:nvPr/>
        </p:nvSpPr>
        <p:spPr>
          <a:xfrm flipH="1">
            <a:off x="2843280" y="5678640"/>
            <a:ext cx="720720" cy="41436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iesioji jungtis 19"/>
          <p:cNvSpPr/>
          <p:nvPr/>
        </p:nvSpPr>
        <p:spPr>
          <a:xfrm flipH="1">
            <a:off x="2484000" y="6093000"/>
            <a:ext cx="358920" cy="57600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iesioji jungtis 21"/>
          <p:cNvSpPr/>
          <p:nvPr/>
        </p:nvSpPr>
        <p:spPr>
          <a:xfrm flipH="1" flipV="1">
            <a:off x="1618920" y="5445000"/>
            <a:ext cx="865080" cy="122400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iesioji jungtis 23"/>
          <p:cNvSpPr/>
          <p:nvPr/>
        </p:nvSpPr>
        <p:spPr>
          <a:xfrm flipH="1" flipV="1">
            <a:off x="0" y="5235480"/>
            <a:ext cx="1619280" cy="20952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iesioji jungtis 25"/>
          <p:cNvSpPr/>
          <p:nvPr/>
        </p:nvSpPr>
        <p:spPr>
          <a:xfrm>
            <a:off x="6372360" y="2579760"/>
            <a:ext cx="0" cy="40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iesioji jungtis 28"/>
          <p:cNvSpPr/>
          <p:nvPr/>
        </p:nvSpPr>
        <p:spPr>
          <a:xfrm>
            <a:off x="5292720" y="3255840"/>
            <a:ext cx="0" cy="132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iesioji jungtis 36867"/>
          <p:cNvSpPr/>
          <p:nvPr/>
        </p:nvSpPr>
        <p:spPr>
          <a:xfrm>
            <a:off x="3798720" y="227664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iesioji jungtis 36877"/>
          <p:cNvSpPr/>
          <p:nvPr/>
        </p:nvSpPr>
        <p:spPr>
          <a:xfrm>
            <a:off x="2340000" y="4842000"/>
            <a:ext cx="0" cy="18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Box 36880"/>
          <p:cNvSpPr/>
          <p:nvPr/>
        </p:nvSpPr>
        <p:spPr>
          <a:xfrm>
            <a:off x="7740720" y="393372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akrantė</a:t>
            </a:r>
            <a:endParaRPr b="0" lang="en-US" sz="1800" spc="-1" strike="noStrike">
              <a:solidFill>
                <a:srgbClr val="000000"/>
              </a:solidFill>
              <a:latin typeface="Arial"/>
            </a:endParaRPr>
          </a:p>
        </p:txBody>
      </p:sp>
      <p:sp>
        <p:nvSpPr>
          <p:cNvPr id="186" name="TextBox 36882"/>
          <p:cNvSpPr/>
          <p:nvPr/>
        </p:nvSpPr>
        <p:spPr>
          <a:xfrm>
            <a:off x="1763640" y="3573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Atviroji jūra</a:t>
            </a:r>
            <a:endParaRPr b="0" lang="en-US" sz="1800" spc="-1" strike="noStrike">
              <a:solidFill>
                <a:srgbClr val="000000"/>
              </a:solidFill>
              <a:latin typeface="Arial"/>
            </a:endParaRPr>
          </a:p>
        </p:txBody>
      </p:sp>
      <p:cxnSp>
        <p:nvCxnSpPr>
          <p:cNvPr id="187" name="Tiesioji rodyklės jungtis 36884"/>
          <p:cNvCxnSpPr/>
          <p:nvPr/>
        </p:nvCxnSpPr>
        <p:spPr>
          <a:xfrm flipH="1">
            <a:off x="1258200" y="3927240"/>
            <a:ext cx="2540520" cy="1080"/>
          </a:xfrm>
          <a:prstGeom prst="straightConnector1">
            <a:avLst/>
          </a:prstGeom>
          <a:ln w="9360">
            <a:solidFill>
              <a:srgbClr val="0070c0"/>
            </a:solidFill>
            <a:miter/>
            <a:tailEnd len="med" type="triangle" w="med"/>
          </a:ln>
        </p:spPr>
      </p:cxnSp>
      <p:sp>
        <p:nvSpPr>
          <p:cNvPr id="188" name="Tiesioji jungtis 36889"/>
          <p:cNvSpPr/>
          <p:nvPr/>
        </p:nvSpPr>
        <p:spPr>
          <a:xfrm>
            <a:off x="7451640" y="2421000"/>
            <a:ext cx="0" cy="42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Box 36897"/>
          <p:cNvSpPr/>
          <p:nvPr/>
        </p:nvSpPr>
        <p:spPr>
          <a:xfrm flipH="1" rot="16200000">
            <a:off x="6949440" y="3103200"/>
            <a:ext cx="13539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azinė linija</a:t>
            </a:r>
            <a:endParaRPr b="0" lang="en-US" sz="1400" spc="-1" strike="noStrike">
              <a:solidFill>
                <a:srgbClr val="000000"/>
              </a:solidFill>
              <a:latin typeface="Arial"/>
            </a:endParaRPr>
          </a:p>
        </p:txBody>
      </p:sp>
      <p:cxnSp>
        <p:nvCxnSpPr>
          <p:cNvPr id="190" name="Tiesioji rodyklės jungtis 36900"/>
          <p:cNvCxnSpPr/>
          <p:nvPr/>
        </p:nvCxnSpPr>
        <p:spPr>
          <a:xfrm flipV="1">
            <a:off x="7451640" y="3926880"/>
            <a:ext cx="991440" cy="14760"/>
          </a:xfrm>
          <a:prstGeom prst="straightConnector1">
            <a:avLst/>
          </a:prstGeom>
          <a:ln w="9360">
            <a:solidFill>
              <a:srgbClr val="0070c0"/>
            </a:solidFill>
            <a:miter/>
            <a:tailEnd len="med" type="triangle" w="med"/>
          </a:ln>
        </p:spPr>
      </p:cxnSp>
      <p:cxnSp>
        <p:nvCxnSpPr>
          <p:cNvPr id="191" name="Tiesioji rodyklės jungtis 36903"/>
          <p:cNvCxnSpPr/>
          <p:nvPr/>
        </p:nvCxnSpPr>
        <p:spPr>
          <a:xfrm>
            <a:off x="12060360" y="3927600"/>
            <a:ext cx="915120" cy="915120"/>
          </a:xfrm>
          <a:prstGeom prst="straightConnector1">
            <a:avLst/>
          </a:prstGeom>
          <a:ln w="9360">
            <a:solidFill>
              <a:srgbClr val="f9f9f9"/>
            </a:solidFill>
            <a:miter/>
            <a:tailEnd len="med" type="triangle" w="med"/>
          </a:ln>
        </p:spPr>
      </p:cxnSp>
      <p:sp>
        <p:nvSpPr>
          <p:cNvPr id="192" name="TextBox 36907"/>
          <p:cNvSpPr/>
          <p:nvPr/>
        </p:nvSpPr>
        <p:spPr>
          <a:xfrm>
            <a:off x="7596360" y="3681360"/>
            <a:ext cx="15476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idaus vandenys</a:t>
            </a:r>
            <a:endParaRPr b="0" lang="en-US" sz="1400" spc="-1" strike="noStrike">
              <a:solidFill>
                <a:srgbClr val="000000"/>
              </a:solidFill>
              <a:latin typeface="Arial"/>
            </a:endParaRPr>
          </a:p>
        </p:txBody>
      </p:sp>
      <p:sp>
        <p:nvSpPr>
          <p:cNvPr id="193" name="TextBox 36908"/>
          <p:cNvSpPr/>
          <p:nvPr/>
        </p:nvSpPr>
        <p:spPr>
          <a:xfrm rot="16200000">
            <a:off x="6105600" y="3120480"/>
            <a:ext cx="242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Didžiausio atoslūgio linija</a:t>
            </a:r>
            <a:endParaRPr b="0" lang="en-US" sz="1400" spc="-1" strike="noStrike">
              <a:solidFill>
                <a:srgbClr val="000000"/>
              </a:solidFill>
              <a:latin typeface="Arial"/>
            </a:endParaRPr>
          </a:p>
        </p:txBody>
      </p:sp>
      <p:cxnSp>
        <p:nvCxnSpPr>
          <p:cNvPr id="194" name="Tiesioji rodyklės jungtis 36912"/>
          <p:cNvCxnSpPr/>
          <p:nvPr/>
        </p:nvCxnSpPr>
        <p:spPr>
          <a:xfrm flipH="1" flipV="1">
            <a:off x="6372000" y="4346280"/>
            <a:ext cx="1102320" cy="38880"/>
          </a:xfrm>
          <a:prstGeom prst="straightConnector1">
            <a:avLst/>
          </a:prstGeom>
          <a:ln w="9360">
            <a:solidFill>
              <a:srgbClr val="0070c0"/>
            </a:solidFill>
            <a:miter/>
            <a:tailEnd len="med" type="triangle" w="med"/>
          </a:ln>
        </p:spPr>
      </p:cxnSp>
      <p:sp>
        <p:nvSpPr>
          <p:cNvPr id="195" name="TextBox 36921"/>
          <p:cNvSpPr/>
          <p:nvPr/>
        </p:nvSpPr>
        <p:spPr>
          <a:xfrm>
            <a:off x="6372360" y="3681360"/>
            <a:ext cx="107928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eritorinė jū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2 jm .</a:t>
            </a:r>
            <a:endParaRPr b="0" lang="en-US" sz="1400" spc="-1" strike="noStrike">
              <a:solidFill>
                <a:srgbClr val="000000"/>
              </a:solidFill>
              <a:latin typeface="Arial"/>
            </a:endParaRPr>
          </a:p>
        </p:txBody>
      </p:sp>
      <p:cxnSp>
        <p:nvCxnSpPr>
          <p:cNvPr id="196" name="Tiesioji rodyklės jungtis 36927"/>
          <p:cNvCxnSpPr/>
          <p:nvPr/>
        </p:nvCxnSpPr>
        <p:spPr>
          <a:xfrm flipH="1">
            <a:off x="5292000" y="3917520"/>
            <a:ext cx="1080360" cy="1080"/>
          </a:xfrm>
          <a:prstGeom prst="straightConnector1">
            <a:avLst/>
          </a:prstGeom>
          <a:ln w="9360">
            <a:solidFill>
              <a:srgbClr val="0070c0"/>
            </a:solidFill>
            <a:miter/>
            <a:headEnd len="med" type="triangle" w="med"/>
            <a:tailEnd len="med" type="triangle" w="med"/>
          </a:ln>
        </p:spPr>
      </p:cxnSp>
      <p:sp>
        <p:nvSpPr>
          <p:cNvPr id="197" name="TextBox 36928"/>
          <p:cNvSpPr/>
          <p:nvPr/>
        </p:nvSpPr>
        <p:spPr>
          <a:xfrm>
            <a:off x="5364000" y="360036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2 jm.</a:t>
            </a:r>
            <a:endParaRPr b="0" lang="en-US" sz="1400" spc="-1" strike="noStrike">
              <a:solidFill>
                <a:srgbClr val="000000"/>
              </a:solidFill>
              <a:latin typeface="Arial"/>
            </a:endParaRPr>
          </a:p>
        </p:txBody>
      </p:sp>
      <p:cxnSp>
        <p:nvCxnSpPr>
          <p:cNvPr id="198" name="Tiesioji rodyklės jungtis 36930"/>
          <p:cNvCxnSpPr>
            <a:stCxn id="193" idx="2"/>
          </p:cNvCxnSpPr>
          <p:nvPr/>
        </p:nvCxnSpPr>
        <p:spPr>
          <a:xfrm flipH="1">
            <a:off x="5292000" y="3274560"/>
            <a:ext cx="2181960" cy="1080"/>
          </a:xfrm>
          <a:prstGeom prst="straightConnector1">
            <a:avLst/>
          </a:prstGeom>
          <a:ln w="9360">
            <a:solidFill>
              <a:srgbClr val="0070c0"/>
            </a:solidFill>
            <a:miter/>
            <a:tailEnd len="med" type="triangle" w="med"/>
          </a:ln>
        </p:spPr>
      </p:cxnSp>
      <p:sp>
        <p:nvSpPr>
          <p:cNvPr id="199" name="TextBox 36934"/>
          <p:cNvSpPr/>
          <p:nvPr/>
        </p:nvSpPr>
        <p:spPr>
          <a:xfrm>
            <a:off x="5364000" y="3156120"/>
            <a:ext cx="9367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retutinė zona</a:t>
            </a:r>
            <a:endParaRPr b="0" lang="en-US" sz="1400" spc="-1" strike="noStrike">
              <a:solidFill>
                <a:srgbClr val="000000"/>
              </a:solidFill>
              <a:latin typeface="Arial"/>
            </a:endParaRPr>
          </a:p>
        </p:txBody>
      </p:sp>
      <p:sp>
        <p:nvSpPr>
          <p:cNvPr id="200" name="TextBox 36935"/>
          <p:cNvSpPr/>
          <p:nvPr/>
        </p:nvSpPr>
        <p:spPr>
          <a:xfrm>
            <a:off x="5651640" y="2911320"/>
            <a:ext cx="900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24 jm.</a:t>
            </a:r>
            <a:endParaRPr b="0" lang="en-US" sz="1400" spc="-1" strike="noStrike">
              <a:solidFill>
                <a:srgbClr val="000000"/>
              </a:solidFill>
              <a:latin typeface="Arial"/>
            </a:endParaRPr>
          </a:p>
        </p:txBody>
      </p:sp>
      <p:cxnSp>
        <p:nvCxnSpPr>
          <p:cNvPr id="201" name="Tiesioji rodyklės jungtis 36940"/>
          <p:cNvCxnSpPr/>
          <p:nvPr/>
        </p:nvCxnSpPr>
        <p:spPr>
          <a:xfrm>
            <a:off x="3798360" y="2910960"/>
            <a:ext cx="2574360" cy="1080"/>
          </a:xfrm>
          <a:prstGeom prst="straightConnector1">
            <a:avLst/>
          </a:prstGeom>
          <a:ln w="9360">
            <a:solidFill>
              <a:srgbClr val="0070c0"/>
            </a:solidFill>
            <a:miter/>
            <a:headEnd len="med" type="triangle" w="med"/>
            <a:tailEnd len="med" type="triangle" w="med"/>
          </a:ln>
        </p:spPr>
      </p:cxnSp>
      <p:cxnSp>
        <p:nvCxnSpPr>
          <p:cNvPr id="202" name="Tiesioji rodyklės jungtis 36943"/>
          <p:cNvCxnSpPr/>
          <p:nvPr/>
        </p:nvCxnSpPr>
        <p:spPr>
          <a:xfrm flipH="1" flipV="1">
            <a:off x="3798000" y="2539800"/>
            <a:ext cx="3653640" cy="40320"/>
          </a:xfrm>
          <a:prstGeom prst="straightConnector1">
            <a:avLst/>
          </a:prstGeom>
          <a:ln w="9360">
            <a:solidFill>
              <a:srgbClr val="0070c0"/>
            </a:solidFill>
            <a:miter/>
            <a:tailEnd len="med" type="triangle" w="med"/>
          </a:ln>
        </p:spPr>
      </p:cxnSp>
      <p:sp>
        <p:nvSpPr>
          <p:cNvPr id="203" name="TextBox 36949"/>
          <p:cNvSpPr/>
          <p:nvPr/>
        </p:nvSpPr>
        <p:spPr>
          <a:xfrm>
            <a:off x="3798720" y="2487600"/>
            <a:ext cx="2502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Išskirtinė ekonominė zona</a:t>
            </a:r>
            <a:endParaRPr b="0" lang="en-US" sz="1400" spc="-1" strike="noStrike">
              <a:solidFill>
                <a:srgbClr val="000000"/>
              </a:solidFill>
              <a:latin typeface="Arial"/>
            </a:endParaRPr>
          </a:p>
        </p:txBody>
      </p:sp>
      <p:sp>
        <p:nvSpPr>
          <p:cNvPr id="204" name="TextBox 36950"/>
          <p:cNvSpPr/>
          <p:nvPr/>
        </p:nvSpPr>
        <p:spPr>
          <a:xfrm>
            <a:off x="5148360" y="227664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200 jm.</a:t>
            </a:r>
            <a:endParaRPr b="0" lang="en-US" sz="1400" spc="-1" strike="noStrike">
              <a:solidFill>
                <a:srgbClr val="000000"/>
              </a:solidFill>
              <a:latin typeface="Arial"/>
            </a:endParaRPr>
          </a:p>
        </p:txBody>
      </p:sp>
      <p:sp>
        <p:nvSpPr>
          <p:cNvPr id="205" name="TextBox 36951"/>
          <p:cNvSpPr/>
          <p:nvPr/>
        </p:nvSpPr>
        <p:spPr>
          <a:xfrm>
            <a:off x="4371840" y="267336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88 jm.</a:t>
            </a:r>
            <a:endParaRPr b="0" lang="en-US" sz="1400" spc="-1" strike="noStrike">
              <a:solidFill>
                <a:srgbClr val="000000"/>
              </a:solidFill>
              <a:latin typeface="Arial"/>
            </a:endParaRPr>
          </a:p>
        </p:txBody>
      </p:sp>
      <p:sp>
        <p:nvSpPr>
          <p:cNvPr id="206" name="Tiesioji jungtis 36956"/>
          <p:cNvSpPr/>
          <p:nvPr/>
        </p:nvSpPr>
        <p:spPr>
          <a:xfrm flipH="1">
            <a:off x="4371480" y="5445000"/>
            <a:ext cx="344520" cy="43200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iesioji jungtis 36958"/>
          <p:cNvSpPr/>
          <p:nvPr/>
        </p:nvSpPr>
        <p:spPr>
          <a:xfrm flipH="1">
            <a:off x="4155840" y="5881680"/>
            <a:ext cx="215640" cy="57636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iesioji jungtis 36962"/>
          <p:cNvSpPr/>
          <p:nvPr/>
        </p:nvSpPr>
        <p:spPr>
          <a:xfrm>
            <a:off x="3564000" y="5678640"/>
            <a:ext cx="592200" cy="77940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iesioji jungtis 36973"/>
          <p:cNvSpPr/>
          <p:nvPr/>
        </p:nvSpPr>
        <p:spPr>
          <a:xfrm>
            <a:off x="4371840" y="4842000"/>
            <a:ext cx="0" cy="18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iesioji jungtis 36978"/>
          <p:cNvSpPr/>
          <p:nvPr/>
        </p:nvSpPr>
        <p:spPr>
          <a:xfrm>
            <a:off x="3564000" y="5678640"/>
            <a:ext cx="807840" cy="198360"/>
          </a:xfrm>
          <a:prstGeom prst="line">
            <a:avLst/>
          </a:prstGeom>
          <a:ln w="25560">
            <a:solidFill>
              <a:srgbClr val="7030a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1" name="Tiesioji rodyklės jungtis 36982"/>
          <p:cNvCxnSpPr/>
          <p:nvPr/>
        </p:nvCxnSpPr>
        <p:spPr>
          <a:xfrm flipH="1">
            <a:off x="2339280" y="5339880"/>
            <a:ext cx="5112360" cy="1080"/>
          </a:xfrm>
          <a:prstGeom prst="straightConnector1">
            <a:avLst/>
          </a:prstGeom>
          <a:ln w="9360">
            <a:solidFill>
              <a:srgbClr val="ff6600"/>
            </a:solidFill>
            <a:miter/>
            <a:tailEnd len="med" type="triangle" w="med"/>
          </a:ln>
        </p:spPr>
      </p:cxnSp>
      <p:cxnSp>
        <p:nvCxnSpPr>
          <p:cNvPr id="212" name="Tiesioji rodyklės jungtis 36989"/>
          <p:cNvCxnSpPr/>
          <p:nvPr/>
        </p:nvCxnSpPr>
        <p:spPr>
          <a:xfrm flipV="1">
            <a:off x="3798360" y="4941360"/>
            <a:ext cx="2574360" cy="7200"/>
          </a:xfrm>
          <a:prstGeom prst="straightConnector1">
            <a:avLst/>
          </a:prstGeom>
          <a:ln w="9360">
            <a:solidFill>
              <a:srgbClr val="ff0000"/>
            </a:solidFill>
            <a:miter/>
            <a:headEnd len="med" type="triangle" w="med"/>
            <a:tailEnd len="med" type="triangle" w="med"/>
          </a:ln>
        </p:spPr>
      </p:cxnSp>
      <p:cxnSp>
        <p:nvCxnSpPr>
          <p:cNvPr id="213" name="Tiesioji rodyklės jungtis 36997"/>
          <p:cNvCxnSpPr/>
          <p:nvPr/>
        </p:nvCxnSpPr>
        <p:spPr>
          <a:xfrm flipH="1">
            <a:off x="2986920" y="5660640"/>
            <a:ext cx="1384920" cy="1080"/>
          </a:xfrm>
          <a:prstGeom prst="straightConnector1">
            <a:avLst/>
          </a:prstGeom>
          <a:ln w="9360">
            <a:solidFill>
              <a:srgbClr val="ff6600"/>
            </a:solidFill>
            <a:miter/>
            <a:tailEnd len="med" type="triangle" w="med"/>
          </a:ln>
        </p:spPr>
      </p:cxnSp>
      <p:cxnSp>
        <p:nvCxnSpPr>
          <p:cNvPr id="214" name="Tiesioji rodyklės jungtis 37002"/>
          <p:cNvCxnSpPr/>
          <p:nvPr/>
        </p:nvCxnSpPr>
        <p:spPr>
          <a:xfrm flipH="1" flipV="1">
            <a:off x="3798000" y="4801320"/>
            <a:ext cx="3653640" cy="40680"/>
          </a:xfrm>
          <a:prstGeom prst="straightConnector1">
            <a:avLst/>
          </a:prstGeom>
          <a:ln w="9360">
            <a:solidFill>
              <a:srgbClr val="ff0000"/>
            </a:solidFill>
            <a:miter/>
            <a:tailEnd len="med" type="triangle" w="med"/>
          </a:ln>
        </p:spPr>
      </p:cxnSp>
      <p:sp>
        <p:nvSpPr>
          <p:cNvPr id="215" name="TextBox 37008"/>
          <p:cNvSpPr/>
          <p:nvPr/>
        </p:nvSpPr>
        <p:spPr>
          <a:xfrm>
            <a:off x="4822920" y="4998960"/>
            <a:ext cx="20811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ntinentinis šelfas</a:t>
            </a:r>
            <a:endParaRPr b="0" lang="en-US" sz="1400" spc="-1" strike="noStrike">
              <a:solidFill>
                <a:srgbClr val="000000"/>
              </a:solidFill>
              <a:latin typeface="Arial"/>
            </a:endParaRPr>
          </a:p>
        </p:txBody>
      </p:sp>
      <p:sp>
        <p:nvSpPr>
          <p:cNvPr id="216" name="TextBox 37009"/>
          <p:cNvSpPr/>
          <p:nvPr/>
        </p:nvSpPr>
        <p:spPr>
          <a:xfrm>
            <a:off x="4371840" y="5756400"/>
            <a:ext cx="1928880" cy="946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Žemyno povandeninio krašto išorinė riba – 2500 m gylio</a:t>
            </a:r>
            <a:endParaRPr b="0" lang="en-US" sz="1400" spc="-1" strike="noStrike">
              <a:solidFill>
                <a:srgbClr val="000000"/>
              </a:solidFill>
              <a:latin typeface="Arial"/>
            </a:endParaRPr>
          </a:p>
        </p:txBody>
      </p:sp>
      <p:sp>
        <p:nvSpPr>
          <p:cNvPr id="217" name="TextBox 37010"/>
          <p:cNvSpPr/>
          <p:nvPr/>
        </p:nvSpPr>
        <p:spPr>
          <a:xfrm>
            <a:off x="5205240" y="4575240"/>
            <a:ext cx="12528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200 jm.</a:t>
            </a:r>
            <a:endParaRPr b="0" lang="en-US" sz="1400" spc="-1" strike="noStrike">
              <a:solidFill>
                <a:srgbClr val="000000"/>
              </a:solidFill>
              <a:latin typeface="Arial"/>
            </a:endParaRPr>
          </a:p>
        </p:txBody>
      </p:sp>
      <p:sp>
        <p:nvSpPr>
          <p:cNvPr id="218" name="TextBox 37011"/>
          <p:cNvSpPr/>
          <p:nvPr/>
        </p:nvSpPr>
        <p:spPr>
          <a:xfrm>
            <a:off x="4264200" y="4867200"/>
            <a:ext cx="7855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88 jm.</a:t>
            </a:r>
            <a:endParaRPr b="0" lang="en-US" sz="1400" spc="-1" strike="noStrike">
              <a:solidFill>
                <a:srgbClr val="000000"/>
              </a:solidFill>
              <a:latin typeface="Arial"/>
            </a:endParaRPr>
          </a:p>
        </p:txBody>
      </p:sp>
      <p:sp>
        <p:nvSpPr>
          <p:cNvPr id="219" name="TextBox 37012"/>
          <p:cNvSpPr/>
          <p:nvPr/>
        </p:nvSpPr>
        <p:spPr>
          <a:xfrm>
            <a:off x="3456000" y="5445000"/>
            <a:ext cx="8082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00 jm.</a:t>
            </a:r>
            <a:endParaRPr b="0" lang="en-US" sz="1400" spc="-1" strike="noStrike">
              <a:solidFill>
                <a:srgbClr val="000000"/>
              </a:solidFill>
              <a:latin typeface="Arial"/>
            </a:endParaRPr>
          </a:p>
        </p:txBody>
      </p:sp>
      <p:sp>
        <p:nvSpPr>
          <p:cNvPr id="220" name="TextBox 37013"/>
          <p:cNvSpPr/>
          <p:nvPr/>
        </p:nvSpPr>
        <p:spPr>
          <a:xfrm>
            <a:off x="2703600" y="5019840"/>
            <a:ext cx="1452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ax. – 350 jm.</a:t>
            </a:r>
            <a:endParaRPr b="0" lang="en-US" sz="1400" spc="-1" strike="noStrike">
              <a:solidFill>
                <a:srgbClr val="000000"/>
              </a:solidFill>
              <a:latin typeface="Arial"/>
            </a:endParaRPr>
          </a:p>
        </p:txBody>
      </p:sp>
      <p:sp>
        <p:nvSpPr>
          <p:cNvPr id="221" name="Tiesioji jungtis 37015"/>
          <p:cNvSpPr/>
          <p:nvPr/>
        </p:nvSpPr>
        <p:spPr>
          <a:xfrm>
            <a:off x="2987640" y="4883040"/>
            <a:ext cx="0" cy="17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2" name="Tiesioji rodyklės jungtis 37021"/>
          <p:cNvCxnSpPr/>
          <p:nvPr/>
        </p:nvCxnSpPr>
        <p:spPr>
          <a:xfrm flipH="1" flipV="1">
            <a:off x="467640" y="5085720"/>
            <a:ext cx="3904200" cy="67320"/>
          </a:xfrm>
          <a:prstGeom prst="straightConnector1">
            <a:avLst/>
          </a:prstGeom>
          <a:ln w="9360">
            <a:solidFill>
              <a:srgbClr val="002060"/>
            </a:solidFill>
            <a:miter/>
            <a:tailEnd len="med" type="triangle" w="med"/>
          </a:ln>
        </p:spPr>
      </p:cxnSp>
      <p:sp>
        <p:nvSpPr>
          <p:cNvPr id="223" name="TextBox 37023"/>
          <p:cNvSpPr/>
          <p:nvPr/>
        </p:nvSpPr>
        <p:spPr>
          <a:xfrm>
            <a:off x="812880" y="5753160"/>
            <a:ext cx="834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Rajonas</a:t>
            </a:r>
            <a:endParaRPr b="0" lang="en-US" sz="1400" spc="-1" strike="noStrike">
              <a:solidFill>
                <a:srgbClr val="000000"/>
              </a:solidFill>
              <a:latin typeface="Arial"/>
            </a:endParaRPr>
          </a:p>
        </p:txBody>
      </p:sp>
      <p:cxnSp>
        <p:nvCxnSpPr>
          <p:cNvPr id="224" name="Tiesioji rodyklės jungtis 37025"/>
          <p:cNvCxnSpPr/>
          <p:nvPr/>
        </p:nvCxnSpPr>
        <p:spPr>
          <a:xfrm flipH="1" flipV="1">
            <a:off x="467640" y="4947480"/>
            <a:ext cx="3331080" cy="51480"/>
          </a:xfrm>
          <a:prstGeom prst="straightConnector1">
            <a:avLst/>
          </a:prstGeom>
          <a:ln w="9360">
            <a:solidFill>
              <a:srgbClr val="002060"/>
            </a:solidFill>
            <a:miter/>
            <a:tailEnd len="med" type="triangle" w="med"/>
          </a:ln>
        </p:spPr>
      </p:cxnSp>
      <p:cxnSp>
        <p:nvCxnSpPr>
          <p:cNvPr id="225" name="Tiesioji rodyklės jungtis 37028"/>
          <p:cNvCxnSpPr/>
          <p:nvPr/>
        </p:nvCxnSpPr>
        <p:spPr>
          <a:xfrm flipH="1" flipV="1">
            <a:off x="502560" y="5392080"/>
            <a:ext cx="2485080" cy="52920"/>
          </a:xfrm>
          <a:prstGeom prst="straightConnector1">
            <a:avLst/>
          </a:prstGeom>
          <a:ln w="9360">
            <a:solidFill>
              <a:srgbClr val="002060"/>
            </a:solidFill>
            <a:miter/>
            <a:tailEnd len="med" type="triangle" w="med"/>
          </a:ln>
        </p:spPr>
      </p:cxnSp>
      <p:cxnSp>
        <p:nvCxnSpPr>
          <p:cNvPr id="226" name="Tiesioji rodyklės jungtis 37030"/>
          <p:cNvCxnSpPr/>
          <p:nvPr/>
        </p:nvCxnSpPr>
        <p:spPr>
          <a:xfrm flipH="1" flipV="1">
            <a:off x="467640" y="5598360"/>
            <a:ext cx="1872360" cy="80280"/>
          </a:xfrm>
          <a:prstGeom prst="straightConnector1">
            <a:avLst/>
          </a:prstGeom>
          <a:ln w="9360">
            <a:solidFill>
              <a:srgbClr val="002060"/>
            </a:solidFill>
            <a:miter/>
            <a:tailEnd len="med" type="triangle" w="med"/>
          </a:ln>
        </p:spPr>
      </p:cxnSp>
      <p:cxnSp>
        <p:nvCxnSpPr>
          <p:cNvPr id="227" name="Tiesioji rodyklės jungtis 37033"/>
          <p:cNvCxnSpPr/>
          <p:nvPr/>
        </p:nvCxnSpPr>
        <p:spPr>
          <a:xfrm flipH="1">
            <a:off x="4371120" y="5195880"/>
            <a:ext cx="3080520" cy="40320"/>
          </a:xfrm>
          <a:prstGeom prst="straightConnector1">
            <a:avLst/>
          </a:prstGeom>
          <a:ln w="9360">
            <a:solidFill>
              <a:srgbClr val="ff66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Teritorinės jūros režimas</a:t>
            </a:r>
            <a:br>
              <a:rPr sz="2000"/>
            </a:br>
            <a:r>
              <a:rPr b="0" lang="lt-LT" sz="1600" spc="-1" strike="noStrike">
                <a:solidFill>
                  <a:srgbClr val="000000"/>
                </a:solidFill>
                <a:latin typeface="Arial"/>
              </a:rPr>
              <a:t>(Jūrų teisės konvencijos 3-7, 17-21, 27, 28 str.)</a:t>
            </a:r>
            <a:endParaRPr b="0" lang="en-US" sz="1600" spc="-1" strike="noStrike">
              <a:solidFill>
                <a:srgbClr val="000000"/>
              </a:solidFill>
              <a:latin typeface="Arial"/>
            </a:endParaRPr>
          </a:p>
        </p:txBody>
      </p:sp>
      <p:sp>
        <p:nvSpPr>
          <p:cNvPr id="229"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ikaus plaukimo teisė</a:t>
            </a:r>
            <a:r>
              <a:rPr b="0" lang="lt-LT" sz="1800" spc="-1" strike="noStrike">
                <a:solidFill>
                  <a:srgbClr val="000000"/>
                </a:solidFill>
                <a:latin typeface="Arial"/>
              </a:rPr>
              <a:t> – visų valstybių laivų teisė plaukti per pakrantės valstybės teritorinę jūrą, jeigu plaukimas yr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000000"/>
                </a:solidFill>
                <a:latin typeface="Arial"/>
              </a:rPr>
              <a:t>- </a:t>
            </a:r>
            <a:r>
              <a:rPr b="0" lang="lt-LT" sz="1800" spc="-1" strike="noStrike">
                <a:solidFill>
                  <a:srgbClr val="000000"/>
                </a:solidFill>
                <a:latin typeface="Arial"/>
              </a:rPr>
              <a:t>nenutrūkstamas ir greitas </a:t>
            </a:r>
            <a:r>
              <a:rPr b="0" lang="lt-LT" sz="1600" spc="-1" strike="noStrike">
                <a:solidFill>
                  <a:srgbClr val="000000"/>
                </a:solidFill>
                <a:latin typeface="Arial"/>
              </a:rPr>
              <a:t>(sustojimo dėl įprastos navigacijos, nenugalimos jėgos ar pagalbos teikimo išlygos);</a:t>
            </a:r>
            <a:endParaRPr b="0" lang="en-US" sz="16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taikus - nekelia grėsmės pakrantės valstybės taikai, tvarkai ir saugumui </a:t>
            </a:r>
            <a:r>
              <a:rPr b="0" lang="lt-LT" sz="1500" spc="-1" strike="noStrike">
                <a:solidFill>
                  <a:srgbClr val="000000"/>
                </a:solidFill>
                <a:latin typeface="Arial"/>
              </a:rPr>
              <a:t>(nėra taikus, kai, pvz., grasinama jėga ar ji naudojama, dalyvaujama manevruose ar pratybose naudojant ginklus, renkama informacija, kelianti grėsmę pakrantės valstybės gynybai ar saugumui, vykdoma propaganda prieš pakrantės valstybės gynybą ar saugumą, paleidžiamas ar nusileidžia orlaivis ar karinis prietaisas, pažeidžiant pakrantės valstybės muitinės, mokesčių, imigracijos ar sanitarijos įstatymus pakraunamos ar iškraunamos prekės arba įsodinamas ar išsodinamas asmuo, sąmoningai ir dideliu mastu teršiama aplinka, žvejojama, vykdomi tyrimai ar stebėjimai, trukdoma pakrantės valstybės ryšio sistemų ar bet kokių kitų įrenginių ar įrengimų darbui, vykdoma bet kokia kita veikla, tiesiogiai nesusijusi su plaukimu)</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Baudžiamoji jurisdikcija plaukiančiame per teritorinę jūra laive</a:t>
            </a:r>
            <a:r>
              <a:rPr b="0" lang="lt-LT" sz="1800" spc="-1" strike="noStrike">
                <a:solidFill>
                  <a:srgbClr val="000000"/>
                </a:solidFill>
                <a:latin typeface="Arial"/>
              </a:rPr>
              <a:t> – laivo vėliavos valstybės, išskyrus šiuos pakrantės valstybės jurisdikcijos atveju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usikaltimo pasekmės susijusios su pakrantės valstyb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usikaltimas trikdo šalies ramybę arba tvarką teritorinėje jūroj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o kapitonas arba laivo vėliavos valstybės diplomatas ar konsulinis pareigūnas prašo vietos valdžios institucijų pagalb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būtina siekiant užkirsti kelią neteisėtai prekybai narkotinėmis ar psichotropinėmis medžiagom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būtina sulaikyti asmenį arba atlikti tyrimą užsienio laive, kuris plaukia teritorine jūra palikęs vidaus vandeni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Civilinė jurisdikcija plaukiančiam per teritorinę jūrą laivui</a:t>
            </a:r>
            <a:r>
              <a:rPr b="0" lang="lt-LT" sz="1800" spc="-1" strike="noStrike">
                <a:solidFill>
                  <a:srgbClr val="000000"/>
                </a:solidFill>
                <a:latin typeface="Arial"/>
              </a:rPr>
              <a:t> – pakrantės valstybė neturi jurisdikcijos laivui, išskyrus šiuos atvejus, kai galimi vykdomieji veiksmai ar laivo arešta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įsipareigojimus prisiėmė pats laivas ir atsakomybė atsirado pačiam laivui jam plaukiant pakrantės valstybės vandenimis ar tokio plaukimo tiksla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plaukia teritorine jūra po to, kai paliko vidaus vanden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Išskirtinės ekonominės zonos ir kontinentinio šelfo režimas</a:t>
            </a:r>
            <a:br>
              <a:rPr sz="2400"/>
            </a:br>
            <a:r>
              <a:rPr b="0" lang="lt-LT" sz="1600" spc="-1" strike="noStrike">
                <a:solidFill>
                  <a:srgbClr val="000000"/>
                </a:solidFill>
                <a:latin typeface="Arial"/>
              </a:rPr>
              <a:t>(Jūrų teisės konvencijos 55-61, 76-81 str.)</a:t>
            </a:r>
            <a:endParaRPr b="0" lang="en-US" sz="1600" spc="-1" strike="noStrike">
              <a:solidFill>
                <a:srgbClr val="000000"/>
              </a:solidFill>
              <a:latin typeface="Arial"/>
            </a:endParaRPr>
          </a:p>
        </p:txBody>
      </p:sp>
      <p:sp>
        <p:nvSpPr>
          <p:cNvPr id="231"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Arial"/>
              </a:rPr>
              <a:t>Išskirtinė ekonominė zona</a:t>
            </a:r>
            <a:r>
              <a:rPr b="0" lang="lt-LT" sz="3000" spc="-1" strike="noStrike">
                <a:solidFill>
                  <a:srgbClr val="000000"/>
                </a:solidFill>
                <a:latin typeface="Arial"/>
              </a:rPr>
              <a:t> – </a:t>
            </a:r>
            <a:r>
              <a:rPr b="0" lang="lt-LT" sz="3000" spc="-1" strike="noStrike" u="sng">
                <a:solidFill>
                  <a:srgbClr val="000000"/>
                </a:solidFill>
                <a:uFillTx/>
                <a:latin typeface="Arial"/>
              </a:rPr>
              <a:t>išimtinės</a:t>
            </a:r>
            <a:r>
              <a:rPr b="0" lang="lt-LT" sz="3000" spc="-1" strike="noStrike">
                <a:solidFill>
                  <a:srgbClr val="000000"/>
                </a:solidFill>
                <a:latin typeface="Arial"/>
              </a:rPr>
              <a:t> ir </a:t>
            </a:r>
            <a:r>
              <a:rPr b="0" lang="lt-LT" sz="3000" spc="-1" strike="noStrike" u="sng">
                <a:solidFill>
                  <a:srgbClr val="000000"/>
                </a:solidFill>
                <a:uFillTx/>
                <a:latin typeface="Arial"/>
              </a:rPr>
              <a:t>suverenios</a:t>
            </a:r>
            <a:r>
              <a:rPr b="0" lang="lt-LT" sz="3000" spc="-1" strike="noStrike">
                <a:solidFill>
                  <a:srgbClr val="000000"/>
                </a:solidFill>
                <a:latin typeface="Arial"/>
              </a:rPr>
              <a:t> pakrantės valstybės teisės:</a:t>
            </a:r>
            <a:endParaRPr b="0" lang="en-US" sz="3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yrinėti ir eksploatuoti, saugoti ir valdyti gyvuosius </a:t>
            </a:r>
            <a:r>
              <a:rPr b="0" lang="lt-LT" sz="2400" spc="-1" strike="noStrike" u="sng">
                <a:solidFill>
                  <a:srgbClr val="000000"/>
                </a:solidFill>
                <a:uFillTx/>
                <a:latin typeface="Arial"/>
              </a:rPr>
              <a:t>išteklius</a:t>
            </a:r>
            <a:r>
              <a:rPr b="0" lang="lt-LT" sz="2400" spc="-1" strike="noStrike">
                <a:solidFill>
                  <a:srgbClr val="000000"/>
                </a:solidFill>
                <a:latin typeface="Arial"/>
              </a:rPr>
              <a:t> ir negyvosios gamtos turtus, kitaip tyrinėti ir eksploatuoti išskirtinę ekonominę zoną (gaminti energiją vandens, srovių ir vėjo pagal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vykdyti jurisdikciją</a:t>
            </a:r>
            <a:r>
              <a:rPr b="0" lang="lt-LT" sz="2400" spc="-1" strike="noStrike">
                <a:solidFill>
                  <a:srgbClr val="000000"/>
                </a:solidFill>
                <a:latin typeface="Arial"/>
              </a:rPr>
              <a:t> dėl dirbtinių salų, įrenginių ir statinių statymo ir naudojimo, jūrų mokslinių tyrinėjimų, jūros aplinkos apsaugos ir išsaugoji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statyti, leisti ir reglamentuoti</a:t>
            </a:r>
            <a:r>
              <a:rPr b="0" lang="lt-LT" sz="2400" spc="-1" strike="noStrike">
                <a:solidFill>
                  <a:srgbClr val="000000"/>
                </a:solidFill>
                <a:latin typeface="Arial"/>
              </a:rPr>
              <a:t> dirbtinių salų, įrenginių ir statinių statybą, naudojimą ir eksploatavimą</a:t>
            </a:r>
            <a:endParaRPr b="0" lang="en-US" sz="24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Arial"/>
              </a:rPr>
              <a:t>Kontinentinis šelfas</a:t>
            </a:r>
            <a:r>
              <a:rPr b="0" lang="lt-LT" sz="3000" spc="-1" strike="noStrike">
                <a:solidFill>
                  <a:srgbClr val="000000"/>
                </a:solidFill>
                <a:latin typeface="Arial"/>
              </a:rPr>
              <a:t> – </a:t>
            </a:r>
            <a:r>
              <a:rPr b="0" lang="lt-LT" sz="3000" spc="-1" strike="noStrike" u="sng">
                <a:solidFill>
                  <a:srgbClr val="000000"/>
                </a:solidFill>
                <a:uFillTx/>
                <a:latin typeface="Arial"/>
              </a:rPr>
              <a:t>išimtinės</a:t>
            </a:r>
            <a:r>
              <a:rPr b="0" lang="lt-LT" sz="3000" spc="-1" strike="noStrike">
                <a:solidFill>
                  <a:srgbClr val="000000"/>
                </a:solidFill>
                <a:latin typeface="Arial"/>
              </a:rPr>
              <a:t> ir </a:t>
            </a:r>
            <a:r>
              <a:rPr b="0" lang="lt-LT" sz="3000" spc="-1" strike="noStrike" u="sng">
                <a:solidFill>
                  <a:srgbClr val="000000"/>
                </a:solidFill>
                <a:uFillTx/>
                <a:latin typeface="Arial"/>
              </a:rPr>
              <a:t>suverenios</a:t>
            </a:r>
            <a:r>
              <a:rPr b="0" lang="lt-LT" sz="3000" spc="-1" strike="noStrike">
                <a:solidFill>
                  <a:srgbClr val="000000"/>
                </a:solidFill>
                <a:latin typeface="Arial"/>
              </a:rPr>
              <a:t> pakrantės valstybės teisės į kontinentinį šelfą, kiek tai susiję su jo </a:t>
            </a:r>
            <a:r>
              <a:rPr b="0" lang="lt-LT" sz="3000" spc="-1" strike="noStrike" u="sng">
                <a:solidFill>
                  <a:srgbClr val="000000"/>
                </a:solidFill>
                <a:uFillTx/>
                <a:latin typeface="Arial"/>
              </a:rPr>
              <a:t>tyrimu</a:t>
            </a:r>
            <a:r>
              <a:rPr b="0" lang="lt-LT" sz="3000" spc="-1" strike="noStrike">
                <a:solidFill>
                  <a:srgbClr val="000000"/>
                </a:solidFill>
                <a:latin typeface="Arial"/>
              </a:rPr>
              <a:t> bei jo </a:t>
            </a:r>
            <a:r>
              <a:rPr b="0" lang="lt-LT" sz="3000" spc="-1" strike="noStrike" u="sng">
                <a:solidFill>
                  <a:srgbClr val="000000"/>
                </a:solidFill>
                <a:uFillTx/>
                <a:latin typeface="Arial"/>
              </a:rPr>
              <a:t>gamtos turtų eksploatavim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Atvirosios jūros režimas</a:t>
            </a:r>
            <a:br>
              <a:rPr sz="2000"/>
            </a:br>
            <a:r>
              <a:rPr b="0" lang="lt-LT" sz="1200" spc="-1" strike="noStrike">
                <a:solidFill>
                  <a:srgbClr val="000000"/>
                </a:solidFill>
                <a:latin typeface="Arial"/>
              </a:rPr>
              <a:t>(Jūrų teisės konvencijos 86-115 str., ypač 87, 110, 111 str.)</a:t>
            </a:r>
            <a:endParaRPr b="0" lang="en-US" sz="1200" spc="-1" strike="noStrike">
              <a:solidFill>
                <a:srgbClr val="000000"/>
              </a:solidFill>
              <a:latin typeface="Arial"/>
            </a:endParaRPr>
          </a:p>
        </p:txBody>
      </p:sp>
      <p:sp>
        <p:nvSpPr>
          <p:cNvPr id="233" name="PlaceHolder 2"/>
          <p:cNvSpPr>
            <a:spLocks noGrp="1"/>
          </p:cNvSpPr>
          <p:nvPr>
            <p:ph/>
          </p:nvPr>
        </p:nvSpPr>
        <p:spPr>
          <a:xfrm>
            <a:off x="0" y="404640"/>
            <a:ext cx="9144000" cy="645336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Atvirosios jūros režimo principai: </a:t>
            </a:r>
            <a:r>
              <a:rPr b="0" lang="lt-LT" sz="1800" spc="-1" strike="noStrike">
                <a:solidFill>
                  <a:srgbClr val="000000"/>
                </a:solidFill>
                <a:latin typeface="Arial"/>
              </a:rPr>
              <a:t>atvirumas ir visų valstybių lygiateisiškumas, taikus naudojimas, suvereniteto pretenzijų nepripažinimas</a:t>
            </a:r>
            <a:endParaRPr b="0" lang="en-US" sz="18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tvirosios jūros laisvė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ybos laisvė;</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kridimo laisvė;</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svė kloti povandeninius kabelius ir vamzdynu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svė statyti tarptautinės teisės leidžiamas dirbtines salas ir kitus įrenginiu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žvejybos laisvė;</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mokslinių tyrimų laisvė</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pžiūros teisė </a:t>
            </a:r>
            <a:r>
              <a:rPr b="0" lang="lt-LT" sz="1600" spc="-1" strike="noStrike">
                <a:solidFill>
                  <a:srgbClr val="000000"/>
                </a:solidFill>
                <a:latin typeface="Arial"/>
              </a:rPr>
              <a:t>– karo laivo (orlaivio) teisė sustabdyti ir apžiūrėti kitos valstybės civilinį laivą esant pakankamo pagrindo įtarti, kad:</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užsiima piratavimu;</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užsiima prekyba vergai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užsiima transliavimu be leidimo;</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neturi nacionalinės priklausomybės;</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laivas turi tą pačią nacionalinę priklausomybę, kaip ir karo laivas, nors plaukia su kitos valstybės vėliava arba atsisako iškelti savo valstybės vėliavą</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ersekiojimas karštais pėdsakais (</a:t>
            </a:r>
            <a:r>
              <a:rPr b="1" i="1" lang="lt-LT" sz="1600" spc="-1" strike="noStrike">
                <a:solidFill>
                  <a:srgbClr val="000000"/>
                </a:solidFill>
                <a:latin typeface="Arial"/>
              </a:rPr>
              <a:t>hot pursuit</a:t>
            </a:r>
            <a:r>
              <a:rPr b="1" lang="lt-LT" sz="1600" spc="-1" strike="noStrike">
                <a:solidFill>
                  <a:srgbClr val="000000"/>
                </a:solidFill>
                <a:latin typeface="Arial"/>
              </a:rPr>
              <a:t>) </a:t>
            </a:r>
            <a:r>
              <a:rPr b="0" lang="lt-LT" sz="1600" spc="-1" strike="noStrike">
                <a:solidFill>
                  <a:srgbClr val="000000"/>
                </a:solidFill>
                <a:latin typeface="Arial"/>
              </a:rPr>
              <a:t>– pakrantės valstybės karo ar kitokio tam įgaliojimus turinčio laivo ar orlaivio teisė persekioti užsienio laivą karštais pėdsakais, kai yra rimtas pagrindas manyti, kad laivas pažeidė pakrantės valstybės įstatymus, susijusius su vidaus vandenų, teritorinės jūros, gretutinės zonos, išskirtinės ekonominės zonos ar kontinentinio šelfo režimu, ir tenkinant šias sąlygas:</a:t>
            </a:r>
            <a:endParaRPr b="0" lang="en-US" sz="16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ersekiojimas turi būti pradėtas, kai laivas ar viena iš jo valčių yra persekiojančios valstybės vidaus vandenyse, teritorinėje jūroje, gretutinėje zonoje ar, išskirtinės ekonominės zonos ar kontinentinio šelfo režimo pažeidimo atveju, - išskirtinėje ekonominėje zonoje ar vandenyse virš kontinentinio šelfo;</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ersekiojimo procesas yra nenutrūkstama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uvo duotas vaizdinis ar garsinis signalas sustoti už tokio atstumo, kad būtų galima iš to užsienio laivo tokį signalą pamatyti ar išgirsti;</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ersekiojimas turi baigtis persekiojamam laivui įplaukus į savo ar trečiosios valstybės teritorinę jūr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2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arptautinės oro teisės pagrindai</a:t>
            </a:r>
            <a:endParaRPr b="0" lang="en-US" sz="1800" spc="-1" strike="noStrike">
              <a:solidFill>
                <a:srgbClr val="000000"/>
              </a:solidFill>
              <a:latin typeface="Arial"/>
            </a:endParaRPr>
          </a:p>
        </p:txBody>
      </p:sp>
      <p:sp>
        <p:nvSpPr>
          <p:cNvPr id="235" name="PlaceHolder 2"/>
          <p:cNvSpPr>
            <a:spLocks noGrp="1"/>
          </p:cNvSpPr>
          <p:nvPr>
            <p:ph/>
          </p:nvPr>
        </p:nvSpPr>
        <p:spPr>
          <a:xfrm>
            <a:off x="0" y="259920"/>
            <a:ext cx="9144000" cy="6597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ė oro teisė</a:t>
            </a:r>
            <a:r>
              <a:rPr b="0" lang="lt-LT" sz="1800" spc="-1" strike="noStrike">
                <a:solidFill>
                  <a:srgbClr val="000000"/>
                </a:solidFill>
                <a:latin typeface="Arial"/>
              </a:rPr>
              <a:t> – tarptautinės teisės šaka, kurios normos reglamentuoja </a:t>
            </a:r>
            <a:r>
              <a:rPr b="0" lang="lt-LT" sz="1800" spc="-1" strike="noStrike" u="sng">
                <a:solidFill>
                  <a:srgbClr val="000000"/>
                </a:solidFill>
                <a:uFillTx/>
                <a:latin typeface="Arial"/>
              </a:rPr>
              <a:t>tarptautinius civilinės aviacijos skrydžius</a:t>
            </a:r>
            <a:r>
              <a:rPr b="0" lang="lt-LT" sz="1800" spc="-1" strike="noStrike">
                <a:solidFill>
                  <a:srgbClr val="000000"/>
                </a:solidFill>
                <a:latin typeface="Arial"/>
              </a:rPr>
              <a:t> ir kitokį oro erdvės naudoj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grindiniai šaltiniai</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19 m. Paryžiaus konvencija dėl oro navigacij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44 m. Čikagos konvencija dėl tarptautinės civilinės aviacijos (ICAO konvenci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44 m. Susitarimai dėl tranzito ir dėl tarptautinio oro transpor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29 m. Varšuvos konvencija dėl tarptautinių vežimų oru tam tikrų taisyklių suvienodinim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48 m. Ženevos konvencija dėl teisių į orlaivį pripažinim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52 m. Romos konvencija dėl užsienio orlaivio žalos, padarytos tretiesiems asmenims sausumoje, atlyginimo</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grindiniai principai</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Visiškas ir išimtinis valstybių suverenitetas savo oro erdvei (virš sausumos ir vandenų teritorijos, įskaitant teritorinę jūr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Skrydžių atviroje oro erdvėje laisvė;</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rptautinės civilinės aviacijos saugumo užtikrinima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Tarptautinio oro susisiekimo (vežimų) režimas</a:t>
            </a:r>
            <a:r>
              <a:rPr b="0" lang="lt-LT" sz="1800" spc="-1" strike="noStrike">
                <a:solidFill>
                  <a:srgbClr val="000000"/>
                </a:solidFill>
                <a:latin typeface="Arial"/>
              </a:rPr>
              <a:t> – „oro laisvės“:</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irmoji oro laisvė – tranzitinis skrydis be nusileidimo suteikusios tokią laisvę trečiosios valstybės teritorijoj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ntroji oro laisvė –  tranzitinis skrydis nusileidžiant  trečiojoje valstybėje nekomerciniais tiksla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rečioji oro laisvė – teisė atvežti į kitą valstybę keleivius, paštą ir krovinius iš orlaivio registracijos šal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etvirtoji oro laisvė – teisė išvežti iš kitos valstybės keleivius, paštą ir krovinius į orlaivio registracijos šalį;</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Penktoji oro laisvė – teisė atvežti į kitą valstybę ir išvežti iš jos keleivius, paštą ir krovinius vežant juos iš ar į bet kokias trečiąsias šal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eštoji oro laisvė – teisė vykdyti oro vežimus tarp kitų šalių per savo šalies teritorij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eptintoji oro laisvė – teisė vykdyti oro vežimus tarp kitų šalių aplenkiant savo šalies teritorij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štuntoji oro laisvė – kabotažiniai vežimai (teisė vykdyti oro vežimus kitoje šalyje tarp kelių jos punktų)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ės tarptautinės organizacijos</a:t>
            </a:r>
            <a:r>
              <a:rPr b="0" lang="lt-LT" sz="1600" spc="-1" strike="noStrike">
                <a:solidFill>
                  <a:srgbClr val="000000"/>
                </a:solidFill>
                <a:latin typeface="Arial"/>
              </a:rPr>
              <a:t>: </a:t>
            </a:r>
            <a:r>
              <a:rPr b="0" lang="lt-LT" sz="1400" spc="-1" strike="noStrike">
                <a:solidFill>
                  <a:srgbClr val="000000"/>
                </a:solidFill>
                <a:latin typeface="Arial"/>
              </a:rPr>
              <a:t>ICAO, Europos civilinės aviacijos konferencija (ECAC), Europos oro navigacijos saugumo organizacija (Eurokontrolė), Afrikos civilinės aviacijos komisija (AfCAC), Lotynų Amerikos civilinės aviacijos komisija (LACAC), Arabų valstybių civilinės aviacijos taryba (CACAS), Tarptautinė oro transporto asociacija (IATA – nevyriausybinė, konsultacinis statusas J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54936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Valstybės užsienio santykių institucijos</a:t>
            </a:r>
            <a:endParaRPr b="0" lang="en-US" sz="2400" spc="-1" strike="noStrike">
              <a:solidFill>
                <a:srgbClr val="000000"/>
              </a:solidFill>
              <a:latin typeface="Arial"/>
            </a:endParaRPr>
          </a:p>
        </p:txBody>
      </p:sp>
      <p:sp>
        <p:nvSpPr>
          <p:cNvPr id="58" name="PlaceHolder 2"/>
          <p:cNvSpPr>
            <a:spLocks noGrp="1"/>
          </p:cNvSpPr>
          <p:nvPr>
            <p:ph/>
          </p:nvPr>
        </p:nvSpPr>
        <p:spPr>
          <a:xfrm>
            <a:off x="-360" y="620640"/>
            <a:ext cx="3419640" cy="6237360"/>
          </a:xfrm>
          <a:prstGeom prst="rect">
            <a:avLst/>
          </a:prstGeom>
          <a:solidFill>
            <a:srgbClr val="ffff00"/>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Bendrosios kompetencijos (politinės) institucijo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 </a:t>
            </a:r>
            <a:r>
              <a:rPr b="1" lang="lt-LT" sz="2000" spc="-1" strike="noStrike">
                <a:solidFill>
                  <a:srgbClr val="000000"/>
                </a:solidFill>
                <a:latin typeface="Arial"/>
              </a:rPr>
              <a:t>Valstybės vadovas</a:t>
            </a:r>
            <a:r>
              <a:rPr b="0" lang="lt-LT" sz="2000" spc="-1" strike="noStrike">
                <a:solidFill>
                  <a:srgbClr val="000000"/>
                </a:solidFill>
                <a:latin typeface="Arial"/>
              </a:rPr>
              <a:t> (RP, jo vadovaujama VGT (UPKT, N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2. </a:t>
            </a:r>
            <a:r>
              <a:rPr b="1" lang="lt-LT" sz="2000" spc="-1" strike="noStrike">
                <a:solidFill>
                  <a:srgbClr val="000000"/>
                </a:solidFill>
                <a:latin typeface="Arial"/>
              </a:rPr>
              <a:t>Vyriausybė</a:t>
            </a:r>
            <a:r>
              <a:rPr b="0" lang="lt-LT" sz="2000" spc="-1" strike="noStrike">
                <a:solidFill>
                  <a:srgbClr val="000000"/>
                </a:solidFill>
                <a:latin typeface="Arial"/>
              </a:rPr>
              <a:t> (M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3. </a:t>
            </a:r>
            <a:r>
              <a:rPr b="1" lang="lt-LT" sz="2000" spc="-1" strike="noStrike">
                <a:solidFill>
                  <a:srgbClr val="000000"/>
                </a:solidFill>
                <a:latin typeface="Arial"/>
              </a:rPr>
              <a:t>Parlamentas</a:t>
            </a:r>
            <a:r>
              <a:rPr b="0" lang="lt-LT" sz="2000" spc="-1" strike="noStrike">
                <a:solidFill>
                  <a:srgbClr val="000000"/>
                </a:solidFill>
                <a:latin typeface="Arial"/>
              </a:rPr>
              <a:t> (Seimas, jo struktūriniai padaliniai (</a:t>
            </a:r>
            <a:r>
              <a:rPr b="0" lang="lt-LT" sz="2000" spc="-1" strike="noStrike" u="sng">
                <a:solidFill>
                  <a:srgbClr val="000000"/>
                </a:solidFill>
                <a:uFillTx/>
                <a:latin typeface="Arial"/>
              </a:rPr>
              <a:t>URK</a:t>
            </a:r>
            <a:r>
              <a:rPr b="0" lang="lt-LT" sz="2000" spc="-1" strike="noStrike">
                <a:solidFill>
                  <a:srgbClr val="000000"/>
                </a:solidFill>
                <a:latin typeface="Arial"/>
              </a:rPr>
              <a:t>, ERK, NSGK, NATO komisija, parlamentinės delegacijos ir parlamentinės ryšių grupės, kt.)</a:t>
            </a:r>
            <a:endParaRPr b="0" lang="en-US" sz="2000" spc="-1" strike="noStrike">
              <a:solidFill>
                <a:srgbClr val="000000"/>
              </a:solidFill>
              <a:latin typeface="Arial"/>
            </a:endParaRPr>
          </a:p>
        </p:txBody>
      </p:sp>
      <p:sp>
        <p:nvSpPr>
          <p:cNvPr id="59" name="PlaceHolder 3"/>
          <p:cNvSpPr>
            <a:spLocks noGrp="1"/>
          </p:cNvSpPr>
          <p:nvPr>
            <p:ph/>
          </p:nvPr>
        </p:nvSpPr>
        <p:spPr>
          <a:xfrm>
            <a:off x="3419280" y="620640"/>
            <a:ext cx="5724360" cy="6237360"/>
          </a:xfrm>
          <a:prstGeom prst="rect">
            <a:avLst/>
          </a:prstGeom>
          <a:solidFill>
            <a:srgbClr val="00a800"/>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Specializuotos institucijos:</a:t>
            </a:r>
            <a:endParaRPr b="0" lang="en-US" sz="2000" spc="-1" strike="noStrike">
              <a:solidFill>
                <a:srgbClr val="000000"/>
              </a:solidFill>
              <a:latin typeface="Arial"/>
            </a:endParaRPr>
          </a:p>
        </p:txBody>
      </p:sp>
      <p:sp>
        <p:nvSpPr>
          <p:cNvPr id="60" name="Rectangle 6"/>
          <p:cNvSpPr/>
          <p:nvPr/>
        </p:nvSpPr>
        <p:spPr>
          <a:xfrm>
            <a:off x="5594400" y="166680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7"/>
          <p:cNvSpPr/>
          <p:nvPr/>
        </p:nvSpPr>
        <p:spPr>
          <a:xfrm>
            <a:off x="3564000" y="1341360"/>
            <a:ext cx="1728720" cy="375192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eikiančios valstybės vidu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u="sng">
                <a:solidFill>
                  <a:srgbClr val="000000"/>
                </a:solidFill>
                <a:uFillTx/>
                <a:latin typeface="Arial"/>
              </a:rPr>
              <a:t>URM (koordinacija)</a:t>
            </a:r>
            <a:r>
              <a:rPr b="0" lang="lt-LT" sz="1800" spc="-1" strike="noStrike">
                <a:solidFill>
                  <a:srgbClr val="000000"/>
                </a:solidFill>
                <a:latin typeface="Arial"/>
              </a:rPr>
              <a:t>, kitos ministerijos ir įstaigos (specializuoti tarptautinių ryšių padalini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8"/>
          <p:cNvSpPr/>
          <p:nvPr/>
        </p:nvSpPr>
        <p:spPr>
          <a:xfrm flipH="1">
            <a:off x="5076360" y="981000"/>
            <a:ext cx="5749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9"/>
          <p:cNvSpPr/>
          <p:nvPr/>
        </p:nvSpPr>
        <p:spPr>
          <a:xfrm>
            <a:off x="5435640" y="1341360"/>
            <a:ext cx="370836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00"/>
                </a:solidFill>
                <a:uFillTx/>
                <a:latin typeface="Arial"/>
              </a:rPr>
              <a:t>Veikiančios valstybės išorėje (užsienyje):</a:t>
            </a:r>
            <a:endParaRPr b="0" lang="en-US" sz="2000" spc="-1" strike="noStrike">
              <a:solidFill>
                <a:srgbClr val="000000"/>
              </a:solidFill>
              <a:latin typeface="Arial"/>
            </a:endParaRPr>
          </a:p>
        </p:txBody>
      </p:sp>
      <p:sp>
        <p:nvSpPr>
          <p:cNvPr id="64" name="Line 10"/>
          <p:cNvSpPr/>
          <p:nvPr/>
        </p:nvSpPr>
        <p:spPr>
          <a:xfrm>
            <a:off x="6659640" y="981000"/>
            <a:ext cx="504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1"/>
          <p:cNvSpPr/>
          <p:nvPr/>
        </p:nvSpPr>
        <p:spPr>
          <a:xfrm>
            <a:off x="5364000" y="2421000"/>
            <a:ext cx="2160720" cy="420444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Nuolatinė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1. Diplomatinės įstaigos:</a:t>
            </a:r>
            <a:r>
              <a:rPr b="0" lang="lt-LT" sz="1800" spc="-1" strike="noStrike">
                <a:solidFill>
                  <a:srgbClr val="000000"/>
                </a:solidFill>
                <a:latin typeface="Arial"/>
              </a:rPr>
              <a:t> </a:t>
            </a:r>
            <a:r>
              <a:rPr b="0" lang="lt-LT" sz="1600" spc="-1" strike="noStrike">
                <a:solidFill>
                  <a:srgbClr val="000000"/>
                </a:solidFill>
                <a:latin typeface="Arial"/>
              </a:rPr>
              <a:t>diplomatinės atstovybės užsienio valstybėse</a:t>
            </a:r>
            <a:r>
              <a:rPr b="0" lang="lt-LT" sz="1800" spc="-1" strike="noStrike">
                <a:solidFill>
                  <a:srgbClr val="000000"/>
                </a:solidFill>
                <a:latin typeface="Arial"/>
              </a:rPr>
              <a:t> </a:t>
            </a:r>
            <a:r>
              <a:rPr b="0" lang="lt-LT" sz="1400" spc="-1" strike="noStrike">
                <a:solidFill>
                  <a:srgbClr val="000000"/>
                </a:solidFill>
                <a:latin typeface="Arial"/>
              </a:rPr>
              <a:t>(ambasados, misijos)</a:t>
            </a:r>
            <a:r>
              <a:rPr b="0" lang="lt-LT" sz="1800" spc="-1" strike="noStrike">
                <a:solidFill>
                  <a:srgbClr val="000000"/>
                </a:solidFill>
                <a:latin typeface="Arial"/>
              </a:rPr>
              <a:t> </a:t>
            </a:r>
            <a:r>
              <a:rPr b="0" lang="lt-LT" sz="1600" spc="-1" strike="noStrike">
                <a:solidFill>
                  <a:srgbClr val="000000"/>
                </a:solidFill>
                <a:latin typeface="Arial"/>
              </a:rPr>
              <a:t>ir atstovybės tarptautinėse organizacij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2. Konsulinės įstaigos</a:t>
            </a:r>
            <a:r>
              <a:rPr b="0" lang="lt-LT" sz="1800" spc="-1" strike="noStrike">
                <a:solidFill>
                  <a:srgbClr val="000000"/>
                </a:solidFill>
                <a:latin typeface="Arial"/>
              </a:rPr>
              <a:t> </a:t>
            </a:r>
            <a:r>
              <a:rPr b="0" lang="lt-LT" sz="1600" spc="-1" strike="noStrike">
                <a:solidFill>
                  <a:srgbClr val="000000"/>
                </a:solidFill>
                <a:latin typeface="Arial"/>
              </a:rPr>
              <a:t>(generalinis konsulatas, konsulatas, vicekonsulatas, konsulinė agentūra)</a:t>
            </a:r>
            <a:endParaRPr b="0" lang="en-US" sz="1600" spc="-1" strike="noStrike">
              <a:solidFill>
                <a:srgbClr val="000000"/>
              </a:solidFill>
              <a:latin typeface="Arial"/>
            </a:endParaRPr>
          </a:p>
        </p:txBody>
      </p:sp>
      <p:sp>
        <p:nvSpPr>
          <p:cNvPr id="66" name="Text Box 12"/>
          <p:cNvSpPr/>
          <p:nvPr/>
        </p:nvSpPr>
        <p:spPr>
          <a:xfrm>
            <a:off x="7596360" y="2421000"/>
            <a:ext cx="1547640" cy="201420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Laiki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pecialiosios misijos ir delegacijos tarptautinių organizacijų institucijose</a:t>
            </a:r>
            <a:endParaRPr b="0" lang="en-US" sz="1800" spc="-1" strike="noStrike">
              <a:solidFill>
                <a:srgbClr val="000000"/>
              </a:solidFill>
              <a:latin typeface="Arial"/>
            </a:endParaRPr>
          </a:p>
        </p:txBody>
      </p:sp>
      <p:sp>
        <p:nvSpPr>
          <p:cNvPr id="67" name="Line 13"/>
          <p:cNvSpPr/>
          <p:nvPr/>
        </p:nvSpPr>
        <p:spPr>
          <a:xfrm flipH="1">
            <a:off x="6156000" y="1989000"/>
            <a:ext cx="4316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4"/>
          <p:cNvSpPr/>
          <p:nvPr/>
        </p:nvSpPr>
        <p:spPr>
          <a:xfrm>
            <a:off x="6659640" y="1989000"/>
            <a:ext cx="12254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a:off x="4211640" y="2492280"/>
            <a:ext cx="1224000" cy="14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a:off x="4211640" y="2492280"/>
            <a:ext cx="33847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arptautinės kosmoso teisės pagrindai</a:t>
            </a:r>
            <a:endParaRPr b="0" lang="en-US" sz="1800" spc="-1" strike="noStrike">
              <a:solidFill>
                <a:srgbClr val="000000"/>
              </a:solidFill>
              <a:latin typeface="Arial"/>
            </a:endParaRPr>
          </a:p>
        </p:txBody>
      </p:sp>
      <p:sp>
        <p:nvSpPr>
          <p:cNvPr id="237" name="PlaceHolder 2"/>
          <p:cNvSpPr>
            <a:spLocks noGrp="1"/>
          </p:cNvSpPr>
          <p:nvPr>
            <p:ph/>
          </p:nvPr>
        </p:nvSpPr>
        <p:spPr>
          <a:xfrm>
            <a:off x="0" y="333360"/>
            <a:ext cx="9144000" cy="6524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arptautinė kosmoso teisė</a:t>
            </a:r>
            <a:r>
              <a:rPr b="0" lang="lt-LT" sz="1600" spc="-1" strike="noStrike">
                <a:solidFill>
                  <a:srgbClr val="000000"/>
                </a:solidFill>
                <a:latin typeface="Arial"/>
              </a:rPr>
              <a:t> – tarptautinės teisės šaka, kurios normos nustato kosmoso erdvės ir dangaus kūnų teisinį režimą bei reglamentuoja tarptautinės teisės subjektų santykius, susijusius su kosmoso, dangaus kūnų ir kosminės technikos naudojim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iai šaltini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63 12 13 JT GA (rezoliucija Nr. 1962(XVIII)) Deklaracija dėl valstybių veiklos tiriant ir naudojant kosmoso erdvę teisinių princip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67 m. Sutartis dėl valstybių veiklos tiriant ir naudojant kosmoso erdvę, įskaitant Mėnulį ir kitus dangaus kūnus, teisinių principų (Kosmoso sutart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79 m. Susitarimas dėl valstybių veiklos Mėnulyje ir kituose dangaus kūnuose (Mėnulio susitari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68 m. Susitarimas dėl kosmonautų gelbėjimo, jų ir į kosmosą paleistų objektų grąžinimo (Gelbėjimo susitari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75 m. Konvencija dėl leidžiamų į kosmosą objektų registracijos (Registracijos konvencij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1972 m. Konvencija dėl tarptautinės atsakomybės už kosminių objektų padarytą žalą (Atsakomybės konvencija)</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iai princip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smoso erdvės tyrimas ir naudojimas visos žmonijos interesais (</a:t>
            </a:r>
            <a:r>
              <a:rPr b="0" i="1" lang="lt-LT" sz="1400" spc="-1" strike="noStrike">
                <a:solidFill>
                  <a:srgbClr val="000000"/>
                </a:solidFill>
                <a:latin typeface="Arial"/>
              </a:rPr>
              <a:t>res communis</a:t>
            </a:r>
            <a:r>
              <a:rPr b="0" lang="lt-LT"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yrimų ir naudojimo atvirumas visoms valstybėms be diskriminacij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Draudimas reikšti suvereniteto pretenzijas ir pasisavinti (</a:t>
            </a:r>
            <a:r>
              <a:rPr b="0" i="1" lang="lt-LT" sz="1400" spc="-1" strike="noStrike">
                <a:solidFill>
                  <a:srgbClr val="000000"/>
                </a:solidFill>
                <a:latin typeface="Arial"/>
              </a:rPr>
              <a:t>res extra commercium</a:t>
            </a:r>
            <a:r>
              <a:rPr b="0" lang="lt-LT"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Tyrimai ir naudojimas taikiems tiksla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sminės erdvės ir dangaus kūnų demilitarizavimas ir neutralum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ių atsakomybė už nacionalinę (vyriausybinių ir nevyriausybinių organizacijų) veiklą kosmo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ių bendradarbiavimas ir tarpusavio pagalb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smonautai kaip žmonijos pasiuntiniai kosmose – visokeriopa pagalba nelaimę patyrusiems kosmonauta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ės jurisdikcija ir kontrolė joje registruotiems paleistiems į kosmosą objekta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lstybės atsakomybė už joje registruotų kosminių objektų padarytą žalą kitoms valstybėms, fiziniams ir juridiniams asmeni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osminės erdvės ir dangaus kūnų aplinkos apsauga – pareiga šalinti ir grąžinti nenaudojamus ir nereikalingus kosminius objektu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ės tarptautinės organizacijos</a:t>
            </a:r>
            <a:r>
              <a:rPr b="0" lang="lt-LT" sz="1600" spc="-1" strike="noStrike">
                <a:solidFill>
                  <a:srgbClr val="000000"/>
                </a:solidFill>
                <a:latin typeface="Arial"/>
              </a:rPr>
              <a:t>: Europos kosmoso agentūra (ECA), kosminio ryšio organizacijos (INTELSAT, INMARSAT, EUTELSAT, ARABS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arptautinės ekologinės teisės pagrindai</a:t>
            </a:r>
            <a:endParaRPr b="0" lang="en-US" sz="1800" spc="-1" strike="noStrike">
              <a:solidFill>
                <a:srgbClr val="000000"/>
              </a:solidFill>
              <a:latin typeface="Arial"/>
            </a:endParaRPr>
          </a:p>
        </p:txBody>
      </p:sp>
      <p:sp>
        <p:nvSpPr>
          <p:cNvPr id="239" name="PlaceHolder 2"/>
          <p:cNvSpPr>
            <a:spLocks noGrp="1"/>
          </p:cNvSpPr>
          <p:nvPr>
            <p:ph/>
          </p:nvPr>
        </p:nvSpPr>
        <p:spPr>
          <a:xfrm>
            <a:off x="0" y="333360"/>
            <a:ext cx="9144000" cy="6524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Tarptautinė ekologinė teisė</a:t>
            </a:r>
            <a:r>
              <a:rPr b="0" lang="lt-LT" sz="1600" spc="-1" strike="noStrike">
                <a:solidFill>
                  <a:srgbClr val="000000"/>
                </a:solidFill>
                <a:latin typeface="Arial"/>
              </a:rPr>
              <a:t> – tarptautinės teisės šaka, kurios normos reglamentuoja tarptautinės teisės subjektų santykius, susijusius su aplinkos (floros, faunos, hidrosferos, atmosferos, litosferos, kosmoso) apsauga ir racionaliu jos išteklių naudojim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iai šaltini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79 m. Konvencija dėl transnacionalinės oro taršos dideliu atstumu;</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85 m. Rėminė konvencija dėl ozono sluoksnio apsaugo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82 m. JT Jūrų teisės konvencij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80 m. Konvencija dėl branduolinių medžiagų fizinės apsaugo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73 m. Vašingtono konvencija dėl nykstančių laukinės floros ir faunos rūšių tarptautinės prekybo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72 m. Konvencija dėl jūros teršimo atliekomis ir kitomis medžiagomis prevencijo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91 m. Espoo konvencija dėl poveikio aplinkai vertinimo transnacionaliniame kontekst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86 m. Konvencija dėl operatyvaus informavimo apie branduolinę avariją ar avarinę radiacinę situaciją;</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86 m. Konvencija dėl pagalbos branduolinės avarijos ar avarinės radiacinės situacijos atveju;</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92 m. Helsinkio konvencija dėl pramoninių avarijų transnacionalinio poveikio;</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500" spc="-1" strike="noStrike">
                <a:solidFill>
                  <a:srgbClr val="000000"/>
                </a:solidFill>
                <a:latin typeface="Arial"/>
              </a:rPr>
              <a:t>1993 m. Lugano konvencija dėl civilinės atsakomybės už žalą dėl keliančios grėsmę aplinkai veiklos</a:t>
            </a:r>
            <a:endParaRPr b="0" lang="en-US" sz="15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iai principai</a:t>
            </a:r>
            <a:r>
              <a:rPr b="0" lang="lt-LT"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psauga dabartinės ir būsimųjų kartų labu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plinkosauginis bendradarbiav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ransnacionalinės žalos prevenci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Išankstinis poveikio aplinkai vertin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tsargumo (</a:t>
            </a:r>
            <a:r>
              <a:rPr b="0" i="1" lang="lt-LT" sz="1600" spc="-1" strike="noStrike">
                <a:solidFill>
                  <a:srgbClr val="000000"/>
                </a:solidFill>
                <a:latin typeface="Arial"/>
              </a:rPr>
              <a:t>precautionary</a:t>
            </a:r>
            <a:r>
              <a:rPr b="0" lang="lt-LT" sz="1600" spc="-1" strike="noStrike">
                <a:solidFill>
                  <a:srgbClr val="000000"/>
                </a:solidFill>
                <a:latin typeface="Arial"/>
              </a:rPr>
              <a:t>) princip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eitimasis ekologine informaci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Karinio ir kitokio priešiško poveikio aplinkai draudi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Tarptautinių aplinkosauginių įsipareigojimų vykdymo kontrolė;</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Ekologinis saugum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Pagrindinės tarptautinės organizacijos</a:t>
            </a:r>
            <a:r>
              <a:rPr b="0" lang="lt-LT" sz="1600" spc="-1" strike="noStrike">
                <a:solidFill>
                  <a:srgbClr val="000000"/>
                </a:solidFill>
                <a:latin typeface="Arial"/>
              </a:rPr>
              <a:t>: UNE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Tarptautinės ekonominės teisės pagrindai</a:t>
            </a:r>
            <a:endParaRPr b="0" lang="en-US" sz="1800" spc="-1" strike="noStrike">
              <a:solidFill>
                <a:srgbClr val="000000"/>
              </a:solidFill>
              <a:latin typeface="Arial"/>
            </a:endParaRPr>
          </a:p>
        </p:txBody>
      </p:sp>
      <p:sp>
        <p:nvSpPr>
          <p:cNvPr id="241" name=""/>
          <p:cNvSpPr txBox="1"/>
          <p:nvPr/>
        </p:nvSpPr>
        <p:spPr>
          <a:xfrm>
            <a:off x="0" y="333360"/>
            <a:ext cx="9144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Tarptautinė ekonominė teisė</a:t>
            </a:r>
            <a:r>
              <a:rPr b="0" lang="lt-LT" sz="1200" spc="-1" strike="noStrike">
                <a:solidFill>
                  <a:srgbClr val="000000"/>
                </a:solidFill>
                <a:latin typeface="Arial"/>
              </a:rPr>
              <a:t> – tarptautinės teisės šaka, kurios normos reglamentuoja tarptautinės teisės subjektų santykius tarptautinių ekonominių santykių srityje siekiant juos harmonizuoti ir plėtoti abipusės naudos pagrind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pecifika</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ersipynimas su tarptautinės privatinės teisės reglamentuojamais santykiai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ąveika su nacionalinėmis teisinėmis sistemomis (rėminės ir skėtinės sutarty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grindinės sritys</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prekybos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finansų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investicijų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transporto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muitų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turizmo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ė mokslo ir technikos teisė</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grindiniai principai</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bendradarbiavimo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sateisio valstybių dalyvavimo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alstybių suvereniteto jų gamtiniams ištekliams ir ekonominei veiklai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eferencinio režimo besivystančioms šalims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tarptautinio socialinio teisingumo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ekybos laisvės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nediskriminacijos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abipusiškumo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ąžiningos konkurencijos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visų valstybių laisvės naudotis jūra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ubalansuotos ir tolygios plėtros princip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grindiniai reglamentavimo režimai</a:t>
            </a:r>
            <a:r>
              <a:rPr b="0" lang="lt-LT"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didžiausio palankumo, nacionalinis, specialusis ir preferencinis režima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ekybinių ir ekonominių valstybių sąjungų formos: laisvosios prekybos zonos, muitų sąjungos, ekonominės sąjungos ir preferencinės sistem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grindiniai šaltiniai</a:t>
            </a:r>
            <a:r>
              <a:rPr b="0" lang="lt-LT" sz="1200" spc="-1" strike="noStrike">
                <a:solidFill>
                  <a:srgbClr val="000000"/>
                </a:solidFill>
                <a:latin typeface="Arial"/>
              </a:rPr>
              <a:t>: 1974 m. JT GA Valstybių ekonominių teisių ir pareigų chartija, 1947 m. GATT, 1994 m. Bendrasis susitarimas dėl prekybos paslaugomis (GATS), 1994 m. Susitarimas dėl intelektinės nuosavybės teisių  prekybos aspektų (TRIPS) ir vėlesni (po 1995 m.) PPO susitarimai, žaliavų susitarimai (dėl kaučiuko, alavo, cukraus, kavos, kakavos, aliejaus, grūdų, medien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Pagrindinės tarptautinės organizacijos</a:t>
            </a:r>
            <a:r>
              <a:rPr b="0" lang="lt-LT" sz="1200" spc="-1" strike="noStrike">
                <a:solidFill>
                  <a:srgbClr val="000000"/>
                </a:solidFill>
                <a:latin typeface="Arial"/>
              </a:rPr>
              <a:t>: UNCTAD, PPO, TVF, TRPB (PB), MIGA, PTO, ERPB, žaliavinės  organizacij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lomatin</a:t>
            </a:r>
            <a:r>
              <a:rPr b="1" lang="lt-LT" sz="2000" spc="-1" strike="noStrike">
                <a:solidFill>
                  <a:srgbClr val="000000"/>
                </a:solidFill>
                <a:latin typeface="Arial"/>
              </a:rPr>
              <a:t>ė</a:t>
            </a:r>
            <a:r>
              <a:rPr b="1" lang="en-US" sz="2000" spc="-1" strike="noStrike">
                <a:solidFill>
                  <a:srgbClr val="000000"/>
                </a:solidFill>
                <a:latin typeface="Arial"/>
              </a:rPr>
              <a:t>s </a:t>
            </a:r>
            <a:r>
              <a:rPr b="1" lang="lt-LT" sz="2000" spc="-1" strike="noStrike">
                <a:solidFill>
                  <a:srgbClr val="000000"/>
                </a:solidFill>
                <a:latin typeface="Arial"/>
              </a:rPr>
              <a:t>atstovybės sąvoka ir funkcijos</a:t>
            </a:r>
            <a:br>
              <a:rPr sz="2000"/>
            </a:br>
            <a:r>
              <a:rPr b="0" lang="lt-LT" sz="1600" spc="-1" strike="noStrike">
                <a:solidFill>
                  <a:srgbClr val="000000"/>
                </a:solidFill>
                <a:latin typeface="Arial"/>
              </a:rPr>
              <a:t>(1961 m. Vienos konvencijos 3 str., LR DTĮ 7 ir 9 str.)</a:t>
            </a:r>
            <a:endParaRPr b="0" lang="en-US" sz="1600" spc="-1" strike="noStrike">
              <a:solidFill>
                <a:srgbClr val="000000"/>
              </a:solidFill>
              <a:latin typeface="Arial"/>
            </a:endParaRPr>
          </a:p>
        </p:txBody>
      </p:sp>
      <p:sp>
        <p:nvSpPr>
          <p:cNvPr id="72"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LR diplomatinė atstovybė</a:t>
            </a:r>
            <a:r>
              <a:rPr b="0" lang="lt-LT" sz="1800" spc="-1" strike="noStrike">
                <a:solidFill>
                  <a:srgbClr val="000000"/>
                </a:solidFill>
                <a:latin typeface="Arial"/>
              </a:rPr>
              <a:t> – </a:t>
            </a:r>
            <a:r>
              <a:rPr b="0" lang="lt-LT" sz="1800" spc="-1" strike="noStrike" u="sng">
                <a:solidFill>
                  <a:srgbClr val="000000"/>
                </a:solidFill>
                <a:uFillTx/>
                <a:latin typeface="Arial"/>
              </a:rPr>
              <a:t>užsienio valstybėje</a:t>
            </a:r>
            <a:r>
              <a:rPr b="0" lang="lt-LT" sz="1800" spc="-1" strike="noStrike">
                <a:solidFill>
                  <a:srgbClr val="000000"/>
                </a:solidFill>
                <a:latin typeface="Arial"/>
              </a:rPr>
              <a:t> ar prie TO nuolat veikianti LR diplomatinės tarnybos institucija </a:t>
            </a:r>
            <a:r>
              <a:rPr b="0" lang="lt-LT" sz="1800" spc="-1" strike="noStrike" u="sng">
                <a:solidFill>
                  <a:srgbClr val="000000"/>
                </a:solidFill>
                <a:uFillTx/>
                <a:latin typeface="Arial"/>
              </a:rPr>
              <a:t>oficialiems tarpvalstybiniams santykiams</a:t>
            </a:r>
            <a:r>
              <a:rPr b="0" lang="lt-LT" sz="1800" spc="-1" strike="noStrike">
                <a:solidFill>
                  <a:srgbClr val="000000"/>
                </a:solidFill>
                <a:latin typeface="Arial"/>
              </a:rPr>
              <a:t> ar oficialiems santykiams su TO palaikyti, įgyvendinti LR užsienio politikos uždavinius ir ginti LR, jos piliečių, įmonių bei kitų juridinių asmenų teises ir teisėtus interesus. LR diplomatinė atstovybė yra tiesiogiai pavaldi UR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Diplomatinės atstovybės funkcijos</a:t>
            </a:r>
            <a:r>
              <a:rPr b="0" lang="lt-LT" sz="1800" spc="-1" strike="noStrike">
                <a:solidFill>
                  <a:srgbClr val="000000"/>
                </a:solidFill>
                <a:latin typeface="Arial"/>
              </a:rPr>
              <a:t> (pagal Vienos konvencijos 3 str.) – </a:t>
            </a:r>
            <a:r>
              <a:rPr b="0" i="1" lang="lt-LT" sz="1800" spc="-1" strike="noStrike">
                <a:solidFill>
                  <a:srgbClr val="000000"/>
                </a:solidFill>
                <a:latin typeface="Arial"/>
              </a:rPr>
              <a:t>inter alia</a:t>
            </a:r>
            <a:r>
              <a:rPr b="0" lang="lt-LT" sz="1800" spc="-1" strike="noStrike">
                <a:solidFill>
                  <a:srgbClr val="000000"/>
                </a:solidFill>
                <a:latin typeface="Arial"/>
              </a:rPr>
              <a:t>:</a:t>
            </a:r>
            <a:r>
              <a:rPr b="0" i="1" lang="lt-LT"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atstovavimas valstybei </a:t>
            </a:r>
            <a:r>
              <a:rPr b="0" lang="lt-LT" sz="1600" spc="-1" strike="noStrike">
                <a:solidFill>
                  <a:srgbClr val="000000"/>
                </a:solidFill>
                <a:latin typeface="Arial"/>
              </a:rPr>
              <a:t>(bendroji funkcija, kitos išvestinės)</a:t>
            </a:r>
            <a:r>
              <a:rPr b="0" lang="lt-LT"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valstybės, jos fizinių ir juridinių asmenų interesų gynimas</a:t>
            </a:r>
            <a:r>
              <a:rPr b="0" lang="lt-LT" sz="1600" spc="-1" strike="noStrike">
                <a:solidFill>
                  <a:srgbClr val="000000"/>
                </a:solidFill>
                <a:latin typeface="Arial"/>
              </a:rPr>
              <a:t> </a:t>
            </a:r>
            <a:r>
              <a:rPr b="0" lang="lt-LT" sz="1400" spc="-1" strike="noStrike">
                <a:solidFill>
                  <a:srgbClr val="000000"/>
                </a:solidFill>
                <a:latin typeface="Arial"/>
              </a:rPr>
              <a:t>(įskaitant diplomatinę gynybą, kurią vykdo ir kitos valstybės institucijos, - valstybės reikalavimo, panaudojant diplomatines ar kitas taikias priemones, pateikimas siekiant įgyvendinti kitos valstybės atsakomybę už žalą, padarytą tarptautinės teisės pažeidimu reikalavimą pateikiančios valstybės piliečiui – fiziniam ar juridiniam asmeniui (TTK 2006 m. Diplomatinės gynybos straipsnių projekto 1 str.))</a:t>
            </a:r>
            <a:r>
              <a:rPr b="0" lang="lt-LT" sz="1800" spc="-1" strike="noStrike">
                <a:solidFill>
                  <a:srgbClr val="000000"/>
                </a:solidFill>
                <a:latin typeface="Arial"/>
              </a:rPr>
              <a:t>;</a:t>
            </a:r>
            <a:r>
              <a:rPr b="0" lang="lt-L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800" spc="-1" strike="noStrike">
                <a:solidFill>
                  <a:srgbClr val="000000"/>
                </a:solidFill>
                <a:latin typeface="Arial"/>
              </a:rPr>
              <a:t>- derybos su priimančiosios valstybės vyriausyb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informacijos apie sąlygas ir įvykius priimančiojoje valstybėje rinkimas teisėtomis priemonėmis ir jos perdavimas atstovaujamosios valstybės vyriausybe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draugiškų santykių tarp atstovaujamosios ir priimančiosios valstybės skatinimas bei ekonominių, kultūrinių ir mokslinių ryšių plėtr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konsulinės funkcijos;</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 DTĮ 9 str. papildom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 LR užsienio politikos uždavinių įgyvendin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2) bendradarbiavimo dėl taikos ir saugumo skatinim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3) informacijos apie LR, jos politinę, socialinę ir ekonominę padėtį, kultūrą, papročius ir tradicijas platinim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iplomatinės atstovybės personalas</a:t>
            </a:r>
            <a:br>
              <a:rPr sz="4000"/>
            </a:br>
            <a:r>
              <a:rPr b="0" lang="lt-LT" sz="1600" spc="-1" strike="noStrike">
                <a:solidFill>
                  <a:srgbClr val="000000"/>
                </a:solidFill>
                <a:latin typeface="Arial"/>
              </a:rPr>
              <a:t>(1961 m. Vienos konvencijos 1 str. a-g p., LR DTĮ 14 str.)</a:t>
            </a:r>
            <a:endParaRPr b="0" lang="en-US" sz="1600" spc="-1" strike="noStrike">
              <a:solidFill>
                <a:srgbClr val="000000"/>
              </a:solidFill>
              <a:latin typeface="Arial"/>
            </a:endParaRPr>
          </a:p>
        </p:txBody>
      </p:sp>
      <p:sp>
        <p:nvSpPr>
          <p:cNvPr id="74"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is personalas</a:t>
            </a:r>
            <a:r>
              <a:rPr b="0" lang="lt-LT" sz="2000" spc="-1" strike="noStrike">
                <a:solidFill>
                  <a:srgbClr val="000000"/>
                </a:solidFill>
                <a:latin typeface="Arial"/>
              </a:rPr>
              <a:t> – atstovybės personalo nariai, turintys diplomatinį rangą (įskaitant atstovybės vadovą)</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DTĮ: </a:t>
            </a:r>
            <a:r>
              <a:rPr b="1" lang="lt-LT" sz="1800" spc="-1" strike="noStrike">
                <a:solidFill>
                  <a:srgbClr val="000000"/>
                </a:solidFill>
                <a:latin typeface="Arial"/>
              </a:rPr>
              <a:t>LR diplomatinis personalas</a:t>
            </a:r>
            <a:r>
              <a:rPr b="0" lang="lt-LT" sz="1800" spc="-1" strike="noStrike">
                <a:solidFill>
                  <a:srgbClr val="000000"/>
                </a:solidFill>
                <a:latin typeface="Arial"/>
              </a:rPr>
              <a:t> – </a:t>
            </a:r>
            <a:r>
              <a:rPr b="0" lang="lt-LT" sz="1800" spc="-1" strike="noStrike" u="sng">
                <a:solidFill>
                  <a:srgbClr val="000000"/>
                </a:solidFill>
                <a:uFillTx/>
                <a:latin typeface="Arial"/>
              </a:rPr>
              <a:t>diplomatai</a:t>
            </a:r>
            <a:r>
              <a:rPr b="0" lang="lt-LT" sz="1800" spc="-1" strike="noStrike">
                <a:solidFill>
                  <a:srgbClr val="000000"/>
                </a:solidFill>
                <a:latin typeface="Arial"/>
              </a:rPr>
              <a:t> (diplomatinį rangą turintys statutiniai valstybės tarnautojai, dirbantys pagal diplomato tarnybos sutartį su URM) ir </a:t>
            </a:r>
            <a:r>
              <a:rPr b="0" lang="lt-LT" sz="1800" spc="-1" strike="noStrike" u="sng">
                <a:solidFill>
                  <a:srgbClr val="000000"/>
                </a:solidFill>
                <a:uFillTx/>
                <a:latin typeface="Arial"/>
              </a:rPr>
              <a:t>kiti jiems akreditacijos tikslais prilyginti asmenys</a:t>
            </a:r>
            <a:r>
              <a:rPr b="0" lang="lt-LT" sz="1800" spc="-1" strike="noStrike">
                <a:solidFill>
                  <a:srgbClr val="000000"/>
                </a:solidFill>
                <a:latin typeface="Arial"/>
              </a:rPr>
              <a:t> (kitų ministerijų ir įstaigų skiriami, suderinus su URM, bet neturintys diplomatinio rango ir diplomatinės tarnybos sutarties) – specialieji atašė ir jų pavaduotojai, kariniai atstovai ir jų pavaduotojai, specialieji patarėjai ir jų pavaduotojai</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600" spc="-1" strike="noStrike">
                <a:solidFill>
                  <a:srgbClr val="000000"/>
                </a:solidFill>
                <a:latin typeface="Arial"/>
              </a:rPr>
              <a:t>Specialusis atašė</a:t>
            </a:r>
            <a:r>
              <a:rPr b="0" lang="lt-LT" sz="1600" spc="-1" strike="noStrike">
                <a:solidFill>
                  <a:srgbClr val="000000"/>
                </a:solidFill>
                <a:latin typeface="Arial"/>
              </a:rPr>
              <a:t> – </a:t>
            </a:r>
            <a:r>
              <a:rPr b="0" lang="en-US" sz="1600" spc="-1" strike="noStrike">
                <a:solidFill>
                  <a:srgbClr val="000000"/>
                </a:solidFill>
                <a:latin typeface="Arial"/>
              </a:rPr>
              <a:t>LR pilietis, pagal jį delegavusios ministerijos, kitos valstybės institucijos ar įstaigos kompetenciją padedantis įgyvendinti LR užsienio </a:t>
            </a:r>
            <a:r>
              <a:rPr b="0" lang="lt-LT" sz="1600" spc="-1" strike="noStrike">
                <a:solidFill>
                  <a:srgbClr val="000000"/>
                </a:solidFill>
                <a:latin typeface="Arial"/>
              </a:rPr>
              <a:t>politik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1" lang="lt-LT" sz="1600" spc="-1" strike="noStrike">
                <a:solidFill>
                  <a:srgbClr val="000000"/>
                </a:solidFill>
                <a:latin typeface="Arial"/>
              </a:rPr>
              <a:t>Karinis atstovas</a:t>
            </a:r>
            <a:r>
              <a:rPr b="0" lang="lt-LT" sz="1600" spc="-1" strike="noStrike">
                <a:solidFill>
                  <a:srgbClr val="000000"/>
                </a:solidFill>
                <a:latin typeface="Arial"/>
              </a:rPr>
              <a:t> – nuolatinis Lietuvos kariuomenės vado atstovas tarptautinėje organizacijoje</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1" lang="lt-LT" sz="1600" spc="-1" strike="noStrike">
                <a:solidFill>
                  <a:srgbClr val="000000"/>
                </a:solidFill>
                <a:latin typeface="Arial"/>
              </a:rPr>
              <a:t>Specialusis patarėjas</a:t>
            </a:r>
            <a:r>
              <a:rPr b="0" lang="lt-LT" sz="1600" spc="-1" strike="noStrike">
                <a:solidFill>
                  <a:srgbClr val="000000"/>
                </a:solidFill>
                <a:latin typeface="Arial"/>
              </a:rPr>
              <a:t> - valstybės tarnautojas, laikinai perkeltas dirbti į LR atstovybę prie TO, padedantis įgyvendinti LR užsienio politiką daugiašalių santykių srityje</a:t>
            </a:r>
            <a:r>
              <a:rPr b="0" lang="lt-L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dministracinis techninis personalas</a:t>
            </a:r>
            <a:r>
              <a:rPr b="0" lang="lt-LT" sz="2000" spc="-1" strike="noStrike">
                <a:solidFill>
                  <a:srgbClr val="000000"/>
                </a:solidFill>
                <a:latin typeface="Arial"/>
              </a:rPr>
              <a:t> – atstovybės personalo nariai, atliekantys administracines technines funkcijas (pvz., diplomatinio personalo padėjėjai, kanceliarijos darbuotojai, sekretoriai referenta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ptarnaujantis personalas</a:t>
            </a:r>
            <a:r>
              <a:rPr b="0" lang="lt-LT" sz="2000" spc="-1" strike="noStrike">
                <a:solidFill>
                  <a:srgbClr val="000000"/>
                </a:solidFill>
                <a:latin typeface="Arial"/>
              </a:rPr>
              <a:t> – atstovybės personalo nariai, atliekantys aptarnavimo funkcijas (pvz., vairuotojai, sargai, valytojai, virėjai)</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	</a:t>
            </a:r>
            <a:r>
              <a:rPr b="1" lang="lt-LT" sz="1600" spc="-1" strike="noStrike">
                <a:solidFill>
                  <a:srgbClr val="000000"/>
                </a:solidFill>
                <a:latin typeface="Arial"/>
              </a:rPr>
              <a:t>Privatus namų darbininkas</a:t>
            </a:r>
            <a:r>
              <a:rPr b="0" lang="lt-LT" sz="1600" spc="-1" strike="noStrike">
                <a:solidFill>
                  <a:srgbClr val="000000"/>
                </a:solidFill>
                <a:latin typeface="Arial"/>
              </a:rPr>
              <a:t> – ne atstovybės personalo narys – asmuo, dirbantis atstovybės nario namuose ir nesantis valstybės tarnyboje (pvz., namų prižiūrėtojas, aukl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iplomatinių atstovų klasės ir diplomatiniai rangai</a:t>
            </a:r>
            <a:endParaRPr b="0" lang="en-US" sz="2400" spc="-1" strike="noStrike">
              <a:solidFill>
                <a:srgbClr val="000000"/>
              </a:solidFill>
              <a:latin typeface="Arial"/>
            </a:endParaRPr>
          </a:p>
        </p:txBody>
      </p:sp>
      <p:sp>
        <p:nvSpPr>
          <p:cNvPr id="76" name="PlaceHolder 2"/>
          <p:cNvSpPr>
            <a:spLocks noGrp="1"/>
          </p:cNvSpPr>
          <p:nvPr>
            <p:ph/>
          </p:nvPr>
        </p:nvSpPr>
        <p:spPr>
          <a:xfrm>
            <a:off x="0" y="620640"/>
            <a:ext cx="9144000" cy="623736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ių atstovų klasės</a:t>
            </a:r>
            <a:r>
              <a:rPr b="0" lang="lt-LT" sz="2000" spc="-1" strike="noStrike">
                <a:solidFill>
                  <a:srgbClr val="000000"/>
                </a:solidFill>
                <a:latin typeface="Arial"/>
              </a:rPr>
              <a:t> (Vienos konvencijos 14 str.) – TT reglamentavimo dalykas, tik diplomatiniams atstovams (atstovybių vadovams) ir žymi atstovavimo lygį:</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ambasadoriai ir nuncijai;</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pasiuntiniai, ministrai ir internuncijai;</a:t>
            </a:r>
            <a:endParaRPr b="0" lang="en-US" sz="20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reikalų patikėtiniai</a:t>
            </a:r>
            <a:r>
              <a:rPr b="0" lang="lt-LT" sz="1800" spc="-1" strike="noStrike">
                <a:solidFill>
                  <a:srgbClr val="000000"/>
                </a:solidFill>
                <a:latin typeface="Arial"/>
              </a:rPr>
              <a:t> (</a:t>
            </a:r>
            <a:r>
              <a:rPr b="0" i="1" lang="lt-LT" sz="1800" spc="-1" strike="noStrike">
                <a:solidFill>
                  <a:srgbClr val="000000"/>
                </a:solidFill>
                <a:latin typeface="Arial"/>
              </a:rPr>
              <a:t>chargé d’affaires</a:t>
            </a:r>
            <a:r>
              <a:rPr b="0" lang="lt-LT" sz="1800" spc="-1" strike="noStrike">
                <a:solidFill>
                  <a:srgbClr val="000000"/>
                </a:solidFill>
                <a:latin typeface="Arial"/>
              </a:rPr>
              <a:t>)</a:t>
            </a:r>
            <a:r>
              <a:rPr b="0" lang="en-US" sz="2800" spc="-1" strike="noStrike">
                <a:solidFill>
                  <a:srgbClr val="000000"/>
                </a:solidFill>
                <a:latin typeface="Arial"/>
              </a:rPr>
              <a:t> </a:t>
            </a:r>
            <a:r>
              <a:rPr b="0" lang="lt-LT" sz="1600" spc="-1" strike="noStrike">
                <a:solidFill>
                  <a:srgbClr val="000000"/>
                </a:solidFill>
                <a:latin typeface="Arial"/>
              </a:rPr>
              <a:t>(skiriami ir akredituojami prie užsienio reikalų ministrų)</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Laikinasis reikalų patikėtinis – diplomatas, laikinai einantis atstovybės vadovo pareigas, kol nėra nuolatinio vadovo (Vienos konvencijos 19 str. 1 d., DTĮ 37 str.)</a:t>
            </a:r>
            <a:endParaRPr b="0" lang="en-US" sz="16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iai rangai</a:t>
            </a:r>
            <a:r>
              <a:rPr b="0" lang="lt-LT" sz="2000" spc="-1" strike="noStrike">
                <a:solidFill>
                  <a:srgbClr val="000000"/>
                </a:solidFill>
                <a:latin typeface="Arial"/>
              </a:rPr>
              <a:t> (DTĮ 41 str.) – nacionalinės teisės reglamentavimo dalykas, suteikiami visiems diplomatams, žymi diplomato karjerą (pareiginis laipsnis) ir galėjimą eiti atitinkamas pareiga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1) LR nepaprastasis ir įgaliotasis ambasadoriu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2) LR nepaprastasis pasiuntinys ir įgaliotasis ministra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3) ministras patarėja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4) patarėja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5) pirmasis sekretoriu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6) antrasis sekretoriu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7) trečiasis sekretorius;</a:t>
            </a:r>
            <a:endParaRPr b="0" lang="en-US" sz="20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8) atašė </a:t>
            </a:r>
            <a:r>
              <a:rPr b="0" lang="lt-LT" sz="1600" spc="-1" strike="noStrike">
                <a:solidFill>
                  <a:srgbClr val="000000"/>
                </a:solidFill>
                <a:latin typeface="Arial"/>
              </a:rPr>
              <a:t>(nepainioti su specialiojo atašė pareigybe)</a:t>
            </a:r>
            <a:endParaRPr b="0" lang="en-US" sz="1600" spc="-1" strike="noStrike">
              <a:solidFill>
                <a:srgbClr val="000000"/>
              </a:solidFill>
              <a:latin typeface="Arial"/>
            </a:endParaRPr>
          </a:p>
        </p:txBody>
      </p:sp>
      <p:sp>
        <p:nvSpPr>
          <p:cNvPr id="77" name="Text Box 4"/>
          <p:cNvSpPr/>
          <p:nvPr/>
        </p:nvSpPr>
        <p:spPr>
          <a:xfrm>
            <a:off x="5148360" y="134136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kiriami ir akredituojami prie valstybių vadovų)</a:t>
            </a:r>
            <a:endParaRPr b="0" lang="en-US" sz="1800" spc="-1" strike="noStrike">
              <a:solidFill>
                <a:srgbClr val="000000"/>
              </a:solidFill>
              <a:latin typeface="Arial"/>
            </a:endParaRPr>
          </a:p>
        </p:txBody>
      </p:sp>
      <p:sp>
        <p:nvSpPr>
          <p:cNvPr id="78" name="Text Box 6"/>
          <p:cNvSpPr/>
          <p:nvPr/>
        </p:nvSpPr>
        <p:spPr>
          <a:xfrm>
            <a:off x="4716360" y="1197000"/>
            <a:ext cx="43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000000"/>
                </a:solidFill>
                <a:latin typeface="Symbol"/>
                <a:ea typeface="Symbol"/>
              </a:rPr>
              <a:t></a:t>
            </a:r>
            <a:endParaRPr b="0" lang="en-US" sz="4800" spc="-1" strike="noStrike">
              <a:solidFill>
                <a:srgbClr val="000000"/>
              </a:solidFill>
              <a:latin typeface="Arial"/>
            </a:endParaRPr>
          </a:p>
        </p:txBody>
      </p:sp>
      <p:sp>
        <p:nvSpPr>
          <p:cNvPr id="79" name="Text Box 8"/>
          <p:cNvSpPr/>
          <p:nvPr/>
        </p:nvSpPr>
        <p:spPr>
          <a:xfrm>
            <a:off x="6588000" y="3789360"/>
            <a:ext cx="36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80" name="Text Box 9"/>
          <p:cNvSpPr/>
          <p:nvPr/>
        </p:nvSpPr>
        <p:spPr>
          <a:xfrm>
            <a:off x="7020000" y="4024440"/>
            <a:ext cx="182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teikia RP</a:t>
            </a:r>
            <a:endParaRPr b="0" lang="en-US" sz="1800" spc="-1" strike="noStrike">
              <a:solidFill>
                <a:srgbClr val="000000"/>
              </a:solidFill>
              <a:latin typeface="Arial"/>
            </a:endParaRPr>
          </a:p>
        </p:txBody>
      </p:sp>
      <p:sp>
        <p:nvSpPr>
          <p:cNvPr id="81" name="Text Box 10"/>
          <p:cNvSpPr/>
          <p:nvPr/>
        </p:nvSpPr>
        <p:spPr>
          <a:xfrm>
            <a:off x="608472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1"/>
          <p:cNvSpPr/>
          <p:nvPr/>
        </p:nvSpPr>
        <p:spPr>
          <a:xfrm>
            <a:off x="5508720" y="4292640"/>
            <a:ext cx="57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9600" spc="-1" strike="noStrike">
                <a:solidFill>
                  <a:srgbClr val="000000"/>
                </a:solidFill>
                <a:latin typeface="Symbol"/>
                <a:ea typeface="Symbol"/>
              </a:rPr>
              <a:t></a:t>
            </a:r>
            <a:endParaRPr b="0" lang="en-US" sz="9600" spc="-1" strike="noStrike">
              <a:solidFill>
                <a:srgbClr val="000000"/>
              </a:solidFill>
              <a:latin typeface="Arial"/>
            </a:endParaRPr>
          </a:p>
        </p:txBody>
      </p:sp>
      <p:sp>
        <p:nvSpPr>
          <p:cNvPr id="83" name="Text Box 12"/>
          <p:cNvSpPr/>
          <p:nvPr/>
        </p:nvSpPr>
        <p:spPr>
          <a:xfrm flipV="1" rot="10857000">
            <a:off x="6084720" y="503604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suteikia U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Diplomatinio atstovo (atstovybės vadovo) skyrimas</a:t>
            </a:r>
            <a:br>
              <a:rPr sz="4000"/>
            </a:br>
            <a:r>
              <a:rPr b="0" lang="lt-LT" sz="1400" spc="-1" strike="noStrike">
                <a:solidFill>
                  <a:srgbClr val="000000"/>
                </a:solidFill>
                <a:latin typeface="Arial"/>
              </a:rPr>
              <a:t>(1961 m. Vienos konvencijos 4 ir 13 str., LR DTĮ 31 ir 33 str., LR įstatymo dėl užsienio valstybių diplomatinių atstovybių LR statuso 4 ir 6 str.)</a:t>
            </a:r>
            <a:endParaRPr b="0" lang="en-US" sz="1400" spc="-1" strike="noStrike">
              <a:solidFill>
                <a:srgbClr val="000000"/>
              </a:solidFill>
              <a:latin typeface="Arial"/>
            </a:endParaRPr>
          </a:p>
        </p:txBody>
      </p:sp>
      <p:sp>
        <p:nvSpPr>
          <p:cNvPr id="85"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kyrimo proceso stadijos pagal tarptautinę teisę:</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u="sng">
                <a:solidFill>
                  <a:srgbClr val="000000"/>
                </a:solidFill>
                <a:uFillTx/>
                <a:latin typeface="Arial"/>
              </a:rPr>
              <a:t>Kandidato parinkimas ir agremano prašymas</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Agremanas</a:t>
            </a:r>
            <a:r>
              <a:rPr b="0" lang="lt-LT" sz="1600" spc="-1" strike="noStrike">
                <a:solidFill>
                  <a:srgbClr val="000000"/>
                </a:solidFill>
                <a:latin typeface="Arial"/>
              </a:rPr>
              <a:t> (4-8 savaitės) – </a:t>
            </a:r>
            <a:r>
              <a:rPr b="0" lang="lt-LT" sz="1400" spc="-1" strike="noStrike">
                <a:solidFill>
                  <a:srgbClr val="000000"/>
                </a:solidFill>
                <a:latin typeface="Arial"/>
              </a:rPr>
              <a:t>pagrindinė skyrimo sąlyga</a:t>
            </a:r>
            <a:r>
              <a:rPr b="0" lang="lt-LT" sz="1600" spc="-1" strike="noStrike">
                <a:solidFill>
                  <a:srgbClr val="000000"/>
                </a:solidFill>
                <a:latin typeface="Arial"/>
              </a:rPr>
              <a:t>	</a:t>
            </a:r>
            <a:r>
              <a:rPr b="0" lang="lt-LT" sz="1600" spc="-1" strike="noStrike">
                <a:solidFill>
                  <a:srgbClr val="000000"/>
                </a:solidFill>
                <a:latin typeface="Arial"/>
              </a:rPr>
              <a:t>	</a:t>
            </a:r>
            <a:r>
              <a:rPr b="0" lang="lt-LT" sz="1600" spc="-1" strike="noStrike" u="sng">
                <a:solidFill>
                  <a:srgbClr val="000000"/>
                </a:solidFill>
                <a:uFillTx/>
                <a:latin typeface="Arial"/>
              </a:rPr>
              <a:t>Paskyrimo aktas, akreditacija ir pareigų vykdymo pradžia</a:t>
            </a:r>
            <a:r>
              <a:rPr b="0" lang="lt-LT" sz="1600" spc="-1" strike="noStrike">
                <a:solidFill>
                  <a:srgbClr val="000000"/>
                </a:solidFill>
                <a:latin typeface="Arial"/>
              </a:rPr>
              <a:t> (valstybių vadovai arba užsienio reikalų ministrai): </a:t>
            </a:r>
            <a:r>
              <a:rPr b="0" lang="lt-LT" sz="1400" spc="-1" strike="noStrike">
                <a:solidFill>
                  <a:srgbClr val="000000"/>
                </a:solidFill>
                <a:latin typeface="Arial"/>
              </a:rPr>
              <a:t>pareigos pradedamos eiti nuo įgaliojamųjų raštų įteikimo momento (dažniausiai, įsk. LR) ar nuo pranešimo apie atvykimą ir įgaliojamųjų raštų nuorašų įteikimo URM</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Skyrimo procesas pagal LR teisę:</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r>
              <a:rPr b="0" lang="lt-LT" sz="1600" spc="-1" strike="noStrike">
                <a:solidFill>
                  <a:srgbClr val="000000"/>
                </a:solidFill>
                <a:latin typeface="Arial"/>
              </a:rPr>
              <a:t>Kandidato parinkimas ir neoficialus kandidatūros derinimas (UR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URM teikiamos kandidatūros išankstinis svarstymas Seimo URK (URK rekomendacij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Agremano prašymas ir gavimas diplomatiniais kanalais (UR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Kandidato teikimas Vyriausybei svarstyti (UR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Vyriausybės teikimas Respublikos Prezidentui (nutarimas dėl kandidato pateiki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Respublikos Prezidento dekretas dėl paskyrimo (Ministro Pirmininko kontrasignacij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Įgaliojamųjų raštų parengimas ir išdavimas (URM ir R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Įgaliojamųjų raštų įteikimas ir funkcijų pradžia (valstybės vadovui – ambasadorius ir pasiuntinys, UR ministrui – reikalų patikėtini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Jei būtų skiriamas reikalų patikėtinis (LR nereglamentuota), gavus agremaną, įsakymu jį iš karto paskirtų UR ministras ir jis UR ministro laišką (įgaliojamuosius raštus) teiktų kitos valstybės UR ministrui</a:t>
            </a:r>
            <a:endParaRPr b="0" lang="en-US" sz="1400" spc="-1" strike="noStrike">
              <a:solidFill>
                <a:srgbClr val="000000"/>
              </a:solidFill>
              <a:latin typeface="Arial"/>
            </a:endParaRPr>
          </a:p>
        </p:txBody>
      </p:sp>
      <p:sp>
        <p:nvSpPr>
          <p:cNvPr id="86" name="Line 4"/>
          <p:cNvSpPr/>
          <p:nvPr/>
        </p:nvSpPr>
        <p:spPr>
          <a:xfrm>
            <a:off x="4572000" y="119700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1619280" y="141300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2771640" y="2349360"/>
            <a:ext cx="0" cy="28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2771640" y="285264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9"/>
          <p:cNvSpPr/>
          <p:nvPr/>
        </p:nvSpPr>
        <p:spPr>
          <a:xfrm>
            <a:off x="2771640" y="335772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0"/>
          <p:cNvSpPr/>
          <p:nvPr/>
        </p:nvSpPr>
        <p:spPr>
          <a:xfrm>
            <a:off x="2771640" y="386064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1"/>
          <p:cNvSpPr/>
          <p:nvPr/>
        </p:nvSpPr>
        <p:spPr>
          <a:xfrm>
            <a:off x="2771640" y="436572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2"/>
          <p:cNvSpPr/>
          <p:nvPr/>
        </p:nvSpPr>
        <p:spPr>
          <a:xfrm>
            <a:off x="2771640" y="479736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3"/>
          <p:cNvSpPr/>
          <p:nvPr/>
        </p:nvSpPr>
        <p:spPr>
          <a:xfrm>
            <a:off x="2771640" y="530064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036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Diplomato (diplomatinio agento) funkcijų pabaiga</a:t>
            </a:r>
            <a:br>
              <a:rPr sz="2400"/>
            </a:br>
            <a:r>
              <a:rPr b="0" lang="lt-LT" sz="1800" spc="-1" strike="noStrike">
                <a:solidFill>
                  <a:srgbClr val="000000"/>
                </a:solidFill>
                <a:latin typeface="Arial"/>
              </a:rPr>
              <a:t>(1961 m. Vienos konvencijos 9 str., LR DTĮ 35 ir 36 str.)</a:t>
            </a:r>
            <a:endParaRPr b="0" lang="en-US" sz="1800" spc="-1" strike="noStrike">
              <a:solidFill>
                <a:srgbClr val="000000"/>
              </a:solidFill>
              <a:latin typeface="Arial"/>
            </a:endParaRPr>
          </a:p>
        </p:txBody>
      </p:sp>
      <p:sp>
        <p:nvSpPr>
          <p:cNvPr id="9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tšaukimas</a:t>
            </a:r>
            <a:r>
              <a:rPr b="0" lang="lt-LT" sz="2800" spc="-1" strike="noStrike">
                <a:solidFill>
                  <a:srgbClr val="000000"/>
                </a:solidFill>
                <a:latin typeface="Arial"/>
              </a:rPr>
              <a:t> – svarbiausias pagrinda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400" spc="-1" strike="noStrike">
                <a:solidFill>
                  <a:srgbClr val="000000"/>
                </a:solidFill>
                <a:latin typeface="Arial"/>
              </a:rPr>
              <a:t>- pasibaigus paskyrimo terminui (rotacija) ar bet kuriuo kitu metu atšaukiančiojo pareigūno nuožiū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sistatydinimas, įskaitant resurekciją;</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netekus pilietybė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paskelbus </a:t>
            </a:r>
            <a:r>
              <a:rPr b="0" i="1" lang="lt-LT" sz="2400" spc="-1" strike="noStrike">
                <a:solidFill>
                  <a:srgbClr val="000000"/>
                </a:solidFill>
                <a:latin typeface="Arial"/>
              </a:rPr>
              <a:t>persona non grata</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Arial"/>
              </a:rPr>
              <a:t>Atšaukimo procedūra</a:t>
            </a:r>
            <a:r>
              <a:rPr b="0" lang="lt-LT" sz="2000" spc="-1" strike="noStrike">
                <a:solidFill>
                  <a:srgbClr val="000000"/>
                </a:solidFill>
                <a:latin typeface="Arial"/>
              </a:rPr>
              <a:t>:</a:t>
            </a:r>
            <a:r>
              <a:rPr b="0" lang="lt-LT" sz="2000" spc="-1" strike="noStrike">
                <a:solidFill>
                  <a:srgbClr val="000000"/>
                </a:solidFill>
                <a:latin typeface="Arial"/>
              </a:rPr>
              <a:t>	</a:t>
            </a:r>
            <a:r>
              <a:rPr b="0" lang="lt-LT" sz="2000" spc="-1" strike="noStrike">
                <a:solidFill>
                  <a:srgbClr val="000000"/>
                </a:solidFill>
                <a:latin typeface="Arial"/>
              </a:rPr>
              <a:t>iniciatyva (URM)</a:t>
            </a:r>
            <a:r>
              <a:rPr b="0" lang="lt-LT" sz="2000" spc="-1" strike="noStrike">
                <a:solidFill>
                  <a:srgbClr val="000000"/>
                </a:solidFill>
                <a:latin typeface="Arial"/>
              </a:rPr>
              <a:t>	</a:t>
            </a:r>
            <a:r>
              <a:rPr b="0" lang="lt-LT" sz="2000" spc="-1" strike="noStrike">
                <a:solidFill>
                  <a:srgbClr val="000000"/>
                </a:solidFill>
                <a:latin typeface="Arial"/>
              </a:rPr>
              <a:t>Seimo URK</a:t>
            </a:r>
            <a:r>
              <a:rPr b="0" lang="lt-LT" sz="2000" spc="-1" strike="noStrike">
                <a:solidFill>
                  <a:srgbClr val="000000"/>
                </a:solidFill>
                <a:latin typeface="Arial"/>
              </a:rPr>
              <a:t>	</a:t>
            </a:r>
            <a:r>
              <a:rPr b="0" lang="lt-LT" sz="2000" spc="-1" strike="noStrike">
                <a:solidFill>
                  <a:srgbClr val="000000"/>
                </a:solidFill>
                <a:latin typeface="Arial"/>
              </a:rPr>
              <a:t>Vyriausybės teikimas RP</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RP dekretas (MP kontrasignacija)</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kitos valstybės informavimas ir atšaukiamųjų raštų įteikima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Dismislas</a:t>
            </a:r>
            <a:r>
              <a:rPr b="0" lang="lt-LT" sz="2800" spc="-1" strike="noStrike">
                <a:solidFill>
                  <a:srgbClr val="000000"/>
                </a:solidFill>
                <a:latin typeface="Arial"/>
              </a:rPr>
              <a:t> – atsisakymas pripažinti asmenį diplomatu jo neatšakus per nustatytą laiką po paskelbimo </a:t>
            </a:r>
            <a:r>
              <a:rPr b="0" i="1" lang="lt-LT" sz="2800" spc="-1" strike="noStrike">
                <a:solidFill>
                  <a:srgbClr val="000000"/>
                </a:solidFill>
                <a:latin typeface="Arial"/>
              </a:rPr>
              <a:t>persona non gr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Diplomato mirtis</a:t>
            </a:r>
            <a:endParaRPr b="0" lang="en-US" sz="2800" spc="-1" strike="noStrike">
              <a:solidFill>
                <a:srgbClr val="000000"/>
              </a:solidFill>
              <a:latin typeface="Arial"/>
            </a:endParaRPr>
          </a:p>
        </p:txBody>
      </p:sp>
      <p:sp>
        <p:nvSpPr>
          <p:cNvPr id="97" name="Line 4"/>
          <p:cNvSpPr/>
          <p:nvPr/>
        </p:nvSpPr>
        <p:spPr>
          <a:xfrm>
            <a:off x="4716360" y="386064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5"/>
          <p:cNvSpPr/>
          <p:nvPr/>
        </p:nvSpPr>
        <p:spPr>
          <a:xfrm>
            <a:off x="6875640" y="386064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6"/>
          <p:cNvSpPr/>
          <p:nvPr/>
        </p:nvSpPr>
        <p:spPr>
          <a:xfrm>
            <a:off x="1835280" y="414180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
          <p:cNvSpPr/>
          <p:nvPr/>
        </p:nvSpPr>
        <p:spPr>
          <a:xfrm>
            <a:off x="6732720" y="4141800"/>
            <a:ext cx="158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07:30:31Z</dcterms:created>
  <dc:creator>test</dc:creator>
  <dc:description/>
  <dc:language>en-US</dc:language>
  <cp:lastModifiedBy>User1</cp:lastModifiedBy>
  <dcterms:modified xsi:type="dcterms:W3CDTF">2014-11-02T23:17:01Z</dcterms:modified>
  <cp:revision>211</cp:revision>
  <dc:subject/>
  <dc:title>Skaidrė 1</dc:title>
</cp:coreProperties>
</file>